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41975A-2773-4123-B611-8AF8A0A1AE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C77D0A-8E05-4B8F-8BC2-564E05F27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02D912-46DE-4DAF-AC60-29007C9E6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ing Margin of Error in account, essentially no difference between Calvinists and non-Calvinists for personal evang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47EB38-9262-4AD4-A8DD-31D1FA1A4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B12C8D-B631-4B57-A132-55C3BB06B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94BF5E-7B02-4B46-98BE-DEFB0C924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B6FFCF-D2B2-4611-BF54-2ECD1671C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45C828-C652-4780-A9D4-7B2BDC325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486CE5-816A-4A4D-9D72-F334C4EC3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1D14903-EC59-4F3D-95F4-CA207AE35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157E2D-3A78-4B23-A03A-20B6A71E1F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024943-E207-450C-BF47-4FEA8C288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8BC339-17BD-4B1A-8A48-D37352EB1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284235-8E26-4064-932F-E16D687AE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D1009D-503C-4D6A-9CEC-954F2A0C5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D3BC07C-A8C3-4A58-9FD2-612616E0A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AF5989-4218-4088-9BA7-52E67BB00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5670F6-8BE5-46B9-B812-2A70C877F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A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63960" y="8805960"/>
            <a:ext cx="3032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7AE361-45B3-4887-98CE-EB29665C3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58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1AC56-58D6-4D7D-A53E-474FCCCA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9F05B-4F1C-41DF-9308-B375257C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6911E-42C1-43E7-A1DC-03AFC06C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58E99-D374-4FA8-BEE8-D61371B9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C53E3-08A0-47A0-B0F8-D2C22AF2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09DAA-F9F5-4F8F-AE7C-695765DB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87DB6-DACD-47A9-B91F-E8E08474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B39AF-06C7-4E37-9461-D4420C17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B1A67-8828-4672-850B-E6C1A560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058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2B62F-3515-4AB9-AD91-6785E1D9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80FDA-39A3-40C2-8C19-44485E85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34290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05800"/>
            <a:ext cx="264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E8006-2F54-4EC5-A28A-C0D42860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58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3429000"/>
            <a:ext cx="40158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5800"/>
            <a:ext cx="822960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42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47240" indent="-14724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27EC-0C45-416A-8063-CC2E006AD4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59D3-D035-49C7-AB6F-3109B7B095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9AC-C93B-4879-BBC2-9B449AFB0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vinism and SBC Church Leadership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Findings and Evangelistic Im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3581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s from research conducted by the North American Mission Board – 2007 NAMB New Millennium Ministers Study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Evangelistic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47840" y="841320"/>
          <a:ext cx="834840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841320"/>
                    <a:ext cx="834840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1A369-1656-4003-939B-D505BE8E19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Evangelistic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838080" y="990720"/>
            <a:ext cx="74678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2007 NAMB New Millennium Ministers Survey, an equally high proportion (approximately 95%) of SBC pastors who claim to be and claim not to be five-point Calvinists believe churches should be involved in sponsoring missions and new church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389B5-A7FF-41E6-8015-8A97FB4EDA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Evangelistic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8520" y="612720"/>
          <a:ext cx="6950160" cy="49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612720"/>
                    <a:ext cx="695016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66E60-BF2D-4BB5-AC40-2277201C68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Evangelistic 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60480" y="1006560"/>
          <a:ext cx="748836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006560"/>
                    <a:ext cx="74883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6A9A3-C58F-4F7C-B91F-B87B8628AA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Evangelistic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47920" y="685800"/>
          <a:ext cx="661032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85800"/>
                    <a:ext cx="661032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09680" y="4876920"/>
            <a:ext cx="56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ong SBC Seminary Graduates (1998-2004) who are SBC Pa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D70ED-AB6F-47A2-9720-626B7AA6CC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295280"/>
            <a:ext cx="7696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several important items this report has found related to Calvinism among SBC church leader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, Calvinist led churches are in the minority—though the number is increas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, Calvinism is on the rise among most recent seminary graduates. If present trends continue, Calvinism will continue to grow as an influence in our convention; however, these trends will take years to create a critical point of equality with non-Calvinist led congreg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8DD55-588E-4A0D-85E4-1AA408680E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295280"/>
            <a:ext cx="7696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, Calvinist led churches, pastored by recent seminary graduates, are generally smaller in worship attendance and annual baptisms than non-Calvinist churches led by recent seminary gradu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, church growth statistics in terms of annual baptism rates indicates that there is little difference between Calvinist and non-Calvinist led chur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74680"/>
            <a:ext cx="80773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34578-4E4D-401E-ACA5-658D967EC0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vinism and SBC Church Leadership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Findings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ngelistic Im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581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s from research conducted by the North American Mission Board – 2007 NAMB New Millennium Ministers Study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   I:  Calvinism and SBC Church Leadership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  II:  Calvinism Trends in SBC Church Leadership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 III:  Evangelistic Implica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28600" y="228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and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CEBD5-2297-4884-BC34-90E369D2DE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7 NAMB New Millennium Ministers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33520" y="1219320"/>
            <a:ext cx="807696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ll 1998-2004 Masters level seminary graduates from Golden Gate, New Orleans, Midwestern, Southeastern, Southwestern and the Canadian Southern Baptist Seminary were invited to complete the survey late 2006. A limited subset of Southern graduates was available for the stud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total number of survey respondents was 2149, of those 2134 were usable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y seminary: Golden Gate (N=270), New Orleans (N=287), Midwestern (N=148), Southeastern (N=403), Southwestern (N=978), Canadian Southern Baptist Seminary (N=11), Southern Seminary (N=52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,234 respondents serving as pastors or staff members at a Southern Baptist church. Within this group, 527 serve as senior or solo pastor of congregatio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CF69D-B26A-46B3-BD0E-6692CE7A8B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7 NAMB New Millennium Ministers Study Ques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914400" y="1752480"/>
            <a:ext cx="746748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ongly agree, Somewhat agre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mewhat disagree, Strongly disagree,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a five-point Calvin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is the true evangelist and when He calls someone to himself, his grace is irresist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do not choose to become Christians; God chooses and calls people who then respond to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give a verbal presentation of the gospel (outside of church) at least once a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1F54F-4B55-4537-A4DD-1FD259D9D1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28600" y="228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and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3560" y="1066680"/>
          <a:ext cx="820260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066680"/>
                    <a:ext cx="82026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76334-BD32-4DD5-AD62-EBC633472E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28600" y="2286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and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01760" y="1143000"/>
          <a:ext cx="845028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1143000"/>
                    <a:ext cx="845028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F13C0-FEAD-427E-9A37-DF24FCF307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Trends in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hart 5" descr=""/>
          <p:cNvPicPr/>
          <p:nvPr/>
        </p:nvPicPr>
        <p:blipFill>
          <a:blip r:embed="rId1"/>
          <a:srcRect l="0" t="27131" r="0" b="0"/>
          <a:stretch/>
        </p:blipFill>
        <p:spPr>
          <a:xfrm>
            <a:off x="450720" y="2114640"/>
            <a:ext cx="8163000" cy="343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9320" y="914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 Strongly Agree or Somewhat Agre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Graduation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ong SBC Seminary Graduates (1998-2004) in SBC Church 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B16B2-6817-43E1-B23B-3363E9E53C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Trends in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838080"/>
            <a:ext cx="701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 Strongly Agree or Somewhat Agre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I am a five-point Calvinist’ by Graduation Y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ong SBC Seminary Graduates (1998-2004) in SBC Church 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4200" y="1882800"/>
            <a:ext cx="7634160" cy="406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9C0D1-D9BD-454D-A2BA-313BDD6A03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8600" y="22860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Calvinism Trends in SBC Church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838080" y="9144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BC Seminaries and their proportion of gradu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 are Calvinist in descending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8120" y="2514600"/>
          <a:ext cx="3047760" cy="2868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BC Seminary Graduates (1998-2004) Who are Calvi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051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ern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wester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lden G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wester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w Orl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easter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152280" y="611172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Only a limited subset of Southern graduates were surveyed; A list of all Southern graduates was not made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27C22-BC16-4BAC-BA96-2158269B15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8:12:19Z</dcterms:created>
  <dc:creator>Phillip Connor</dc:creator>
  <dc:description/>
  <dc:language>en-US</dc:language>
  <cp:lastModifiedBy>SMCCONN</cp:lastModifiedBy>
  <dcterms:modified xsi:type="dcterms:W3CDTF">2007-12-10T22:10:07Z</dcterms:modified>
  <cp:revision>65</cp:revision>
  <dc:subject/>
  <dc:title>Calvinism and Southern Baptist Church Leadership  Ed Stetzer, LifeWay Research Director and Resident Missiologist</dc:title>
</cp:coreProperties>
</file>