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6B1B7B-ACBB-4B31-9EA5-B296939981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3F01A9-5CF5-4F31-8178-BC1AD3B89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60495F-9BFE-43C1-AC74-8F1FD29EC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Margin of Error in account, essentially no difference between Calvinists and non-Calvinists for personal evang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2C2E57-1C64-4701-A1AF-66BCBAFC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CCE038-4629-417A-8BAE-A3B3E4F17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20009A-7937-4DD1-B854-B9D0D09F8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EE2B91-2D36-4C04-BEC0-F16E8E2A1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67774E-1283-406A-ABA3-E1E22484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D7346C-8342-4099-80E9-8CD0B7972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483BF6-BD76-4995-A691-9C1703015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D5251D-73A5-4E11-B28B-0F10D812E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7C1FFB-3970-4C6F-932E-00ADD2052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E3020D-8731-4502-89CA-5CFF1AA4D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0A8E6D-D17A-44D5-81C2-74394A1A8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1D1C43-1A60-4A1B-B38D-D20014E30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861C4D-E9BF-4A5C-9BD8-9783114B2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88C2EB-FC72-45BC-8297-EDA06275E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425EEA-A585-4464-A4E5-AAACCC4C1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A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200D18-56D5-4CDF-8411-6C511AE5E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8A702-58B3-4608-9BA9-DC4A53DA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0256-E60F-4C22-B8E6-562F5FCF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858CD-3EDD-41D8-B6AB-265CFD71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833BA-699F-42D2-886B-7297042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96CD-BC88-43A6-A76D-8533BB8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166B-1DA0-4F9C-B012-1A313A6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C5E6F-2F87-45FC-8C24-A0F4157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DE02C-C10E-4F10-992E-FFF8F6A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C81F-15EE-4BDF-B706-69B4518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11805-5C13-4D33-AAF0-1AD5AD5E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122B3-9ED5-4D91-A0DE-E8558219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9BB6A-83BD-425D-BB88-27DA720E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0416-3E45-4686-8F05-E02EC1C369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7EB0-B134-49FB-A776-6BEEAD7A0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7DB2-4DA0-4D86-B6E8-16E33D496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vinism and SBC Church Leadership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Findings and Evangelistic Im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581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s from research conducted by the North American Mission Board – 2007 NAMB New Millennium Ministers Study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7840" y="841320"/>
          <a:ext cx="83484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841320"/>
                    <a:ext cx="8348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97314-31E8-4243-B702-792D4A227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838080" y="990720"/>
            <a:ext cx="74678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2007 NAMB New Millennium Ministers Survey, an equally high proportion (approximately 95%) of SBC pastors who claim to be and claim not to be five-point Calvinists believe churches should be involved in sponsoring missions and new church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C7D1-4E5B-4FF0-B2B6-C3786295A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8520" y="612720"/>
          <a:ext cx="6950160" cy="49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612720"/>
                    <a:ext cx="695016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2F15B-D8C1-4807-9A5E-2EFD65961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60480" y="1006560"/>
          <a:ext cx="748836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006560"/>
                    <a:ext cx="74883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5489F-3097-46AB-88AE-CB15E75EE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47920" y="685800"/>
          <a:ext cx="661032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85800"/>
                    <a:ext cx="66103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09680" y="487692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ng SBC Seminary Graduates (1998-2004) who are SBC Pa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9B2AD-3C74-4611-A0E4-3DFCBB1E3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295280"/>
            <a:ext cx="7696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important items this report has found related to Calvinism among SBC church leade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Calvinist led churches are in the minority—though the number is increas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, Calvinism is on the rise among most recent seminary graduates. If present trends continue, Calvinism will continue to grow as an influence in our convention; however, these trends will take years to create a critical point of equality with non-Calvinist led congreg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FF538-4065-45B8-BAD7-09588E95F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295280"/>
            <a:ext cx="7696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, Calvinist led churches, pastored by recent seminary graduates, are generally smaller in worship attendance and annual baptisms than non-Calvinist churches led by recent seminary gradu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, church growth statistics in terms of annual baptism rates indicates that there is little difference between Calvinist and non-Calvinist led chur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9D7B6-604C-4C31-BCA3-143B3BCD4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vinism and SBC Church Leadership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Findings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ngelistic Im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581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s from research conducted by the North American Mission Board – 2007 NAMB New Millennium Ministers Study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  I:  Calvinism and SBC Church Leadership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 II:  Calvinism Trends in SBC Church Leadership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III:  Evangelistic Implic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8600" y="228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and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2CA0E-8166-427E-938F-77DB98CB60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7 NAMB New Millennium Ministers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33520" y="1219320"/>
            <a:ext cx="80769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 1998-2004 Masters level seminary graduates from Golden Gate, New Orleans, Midwestern, Southeastern, Southwestern and the Canadian Southern Baptist Seminary were invited to complete the survey late 2006. A limited subset of Southern graduates was available for the stud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total number of survey respondents was 2149, of those 2134 were usabl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seminary: Golden Gate (N=270), New Orleans (N=287), Midwestern (N=148), Southeastern (N=403), Southwestern (N=978), Canadian Southern Baptist Seminary (N=11), Southern Seminary (N=52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,234 respondents serving as pastors or staff members at a Southern Baptist church. Within this group, 527 serve as senior or solo pastor of congregati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702E-63FE-41FD-8D6D-E5048C6A7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7 NAMB New Millennium Ministers Study Ques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914400" y="1752480"/>
            <a:ext cx="746748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ongly agree, Somewhat agre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what disagree, Strongly disagree,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a five-point Calvin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is the true evangelist and when He calls someone to himself, his grace is irresist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not choose to become Christians; God chooses and calls people who then respond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ive a verbal presentation of the gospel (outside of church) at least once a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43124-F539-4CF5-8B1D-26DE08B9E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28600" y="228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and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3560" y="1066680"/>
          <a:ext cx="82026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066680"/>
                    <a:ext cx="82026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673A-2713-4FBF-ADD7-E52E199BCA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28600" y="228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and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1760" y="1143000"/>
          <a:ext cx="845028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143000"/>
                    <a:ext cx="845028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BAA00-B6D7-4793-B35E-532DD3B376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Trends in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hart 5" descr=""/>
          <p:cNvPicPr/>
          <p:nvPr/>
        </p:nvPicPr>
        <p:blipFill>
          <a:blip r:embed="rId1"/>
          <a:srcRect l="0" t="27131" r="0" b="0"/>
          <a:stretch/>
        </p:blipFill>
        <p:spPr>
          <a:xfrm>
            <a:off x="450720" y="2114640"/>
            <a:ext cx="8163000" cy="343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914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Strongly Agree or Somewhat Agre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Graduation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ong SBC Seminary Graduates (1998-2004) in SBC Church 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F74A7-4844-4F9A-9456-30BBFE8D6C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Trends in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8380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Strongly Agree or Somewhat Agre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I am a five-point Calvinist’ by Graduation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ong SBC Seminary Graduates (1998-2004) in SBC Church 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4200" y="1882800"/>
            <a:ext cx="76341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6AAB7-3952-454E-B0BB-FF7E964F1E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Trends in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838080" y="914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BC Seminaries and their proportion of gradu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are Calvinist in descending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8120" y="2514600"/>
          <a:ext cx="3047760" cy="2868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C Seminary Graduates (1998-2004) Who are Calvi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ern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weste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den G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weste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w Orl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easte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52280" y="611172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Only a limited subset of Southern graduates were surveyed; A list of all Southern graduates was not mad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580D7-768F-4663-BA26-70EC4D25F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12:19Z</dcterms:created>
  <dc:creator>Phillip Connor</dc:creator>
  <dc:description/>
  <dc:language>en-US</dc:language>
  <cp:lastModifiedBy>SMCCONN</cp:lastModifiedBy>
  <dcterms:modified xsi:type="dcterms:W3CDTF">2007-12-10T22:10:07Z</dcterms:modified>
  <cp:revision>65</cp:revision>
  <dc:subject/>
  <dc:title>Calvinism and Southern Baptist Church Leadership  Ed Stetzer, LifeWay Research Director and Resident Missiologist</dc:title>
</cp:coreProperties>
</file>