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FF751-60E5-4539-9551-53B9A55B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D31A2-DFD7-4DD7-A1E2-11EE07D0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534AD-D2C1-497D-9876-DEDE67C16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A460E-23CA-46CB-AE3D-A2F1EC363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A132E-15E4-443E-8580-67CED3169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15CBB-49C6-4933-AB19-0156C81BE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F709D-8E50-4932-8ED2-A47789646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5DC9A-0761-47AA-B73B-047A537BC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B1A3B-F8DC-4B87-9F48-F62C84F2A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B667F-4A68-4B9C-A539-8173C1EF4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EEB36-6EF8-42E4-B6B5-3D5D1E077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8611E-7389-4C55-B228-F9ABFAC46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900D8-B434-438E-8354-4AAA21EC8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349E0-4A8C-4099-A956-F368BC98D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48E1F-7571-46BC-B134-554818025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B8EAB-EEE7-4860-87D2-16B2946AB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B891F-3BE1-4357-B760-951AEC80B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DFCDE5-EF0D-4BFE-8B9B-3BBED3D16F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50F8D-A472-4195-B6BF-10F5325FA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3C899-3FB3-49C3-8C42-64E5BA540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6E9C1-E397-4206-82B0-0D720BA85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B054D-2638-44B4-9CD1-A88B566D3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DA921-76EE-4E3D-A90A-90DEDEDFE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DA818-71EF-416A-9795-8D64A6342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1811C-E852-4D47-BB0B-7B3BBC9BD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BC4CA-B2AC-4D60-8248-9FE3777ED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F48EF-2338-496C-B4BC-319F664EB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B4277-9236-49BF-B447-5F68DCBDC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1E571C-8DE1-4D28-A5A8-5E1016C909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5BB4B1-4D18-4AB7-BEDE-517492629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398A1B-B366-4FEA-AB71-55E0CD04A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6E5B7-53C3-45C4-8EF1-11C58D2F5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95AFA-6254-4143-8B92-6A2A4F07E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2C23-13AA-4A0E-9B13-AF4C04E5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10792B-7B58-4EC3-BCAC-7911AEC40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6B0DD-D4DD-497F-805B-374C01B1A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969DA-B62A-4FA6-B532-425D7FF4E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27EED-F7BC-483B-AD61-55F685989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5CC7F-8B1B-48A2-B056-F07CB6125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88D0A-F0B5-40C8-895F-8BDFC44AD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23FE4-3291-4DD4-BAD5-D0FBB40F0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4332E-0239-4346-9F7E-3C9BDCD9B6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EC12D4-4348-41B5-8119-B653C90781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D7F00-E3B7-4774-A837-011AF5CCD2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F5E3-A320-4F0A-96B1-880157D69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0AE77-8859-4C06-BB65-B4ED898EE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CA2F6-6C0E-4EC6-8455-2BF11D817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76310-B3A4-4261-983B-B31187FB1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8BE7B-ED14-4CED-913E-9F5F7A063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395B0-1B93-4217-BF3B-0DEC2EEFB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0DB03-D10D-4E21-896E-8B7184DA1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E7AF1-E939-4E5A-9387-7623DBA8F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97785-1A0F-4834-851F-4F8C8E20E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2329C9-0B3C-4710-862D-E1CF73552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82745A-2879-44EA-86B0-D4A595CCDC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81F45-7FB7-4267-986A-93D2829D5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0E44DF-9673-4285-8F54-48B4935CFD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5D5F-5C77-4AD6-AF63-CE934284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B2ADC-325B-4A13-A6CF-930AB4D0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2C0B-982C-48A1-B88C-A60223EFB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BC33-7467-417B-85D7-1841B02A874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F4B4-04AD-466D-8264-38934F9FB21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BAFA-E390-4749-A96E-FC52A65C8B7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36F4-B44C-4432-A24A-C872CF2F14B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6596-C3E0-49D9-B09F-4C84A062B9B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91404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8d3e"/>
                </a:solidFill>
                <a:latin typeface="Verdana"/>
              </a:rPr>
              <a:t>What is the gospel?</a:t>
            </a:r>
            <a:endParaRPr b="1" lang="en-US" sz="5400" spc="-1" strike="noStrike">
              <a:solidFill>
                <a:srgbClr val="ff8d3e"/>
              </a:solidFill>
              <a:latin typeface="Verdana"/>
            </a:endParaRPr>
          </a:p>
        </p:txBody>
      </p:sp>
      <p:sp>
        <p:nvSpPr>
          <p:cNvPr id="221" name="PlaceHolder 2"/>
          <p:cNvSpPr>
            <a:spLocks noGrp="1"/>
          </p:cNvSpPr>
          <p:nvPr>
            <p:ph type="subTitle"/>
          </p:nvPr>
        </p:nvSpPr>
        <p:spPr>
          <a:xfrm>
            <a:off x="1371600" y="4038120"/>
            <a:ext cx="6400800" cy="1752840"/>
          </a:xfrm>
          <a:prstGeom prst="rect">
            <a:avLst/>
          </a:prstGeom>
          <a:noFill/>
          <a:ln w="0">
            <a:noFill/>
          </a:ln>
        </p:spPr>
        <p:txBody>
          <a:bodyPr lIns="182880" rIns="90000" tIns="0" bIns="4680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9766f"/>
                </a:solidFill>
                <a:latin typeface="Verdana"/>
              </a:rPr>
              <a:t>Gathered at http://trevinwax.com</a:t>
            </a:r>
            <a:endParaRPr b="0" lang="en-US" sz="2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9766f"/>
                </a:solidFill>
                <a:latin typeface="Verdana"/>
              </a:rPr>
              <a:t>With additions from Ed Stetzer</a:t>
            </a:r>
            <a:endParaRPr b="0" lang="en-US" sz="2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9766f"/>
                </a:solidFill>
                <a:latin typeface="Verdana"/>
              </a:rPr>
              <a:t>Presented in the </a:t>
            </a:r>
            <a:endParaRPr b="0" lang="en-US" sz="2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9766f"/>
                </a:solidFill>
                <a:latin typeface="Verdana"/>
              </a:rPr>
              <a:t>ReTrain Missional Church class </a:t>
            </a:r>
            <a:endParaRPr b="0" lang="en-US" sz="2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9766f"/>
                </a:solidFill>
                <a:latin typeface="Verdana"/>
              </a:rPr>
              <a:t>Ed Stetzer, Ph.D., professo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Jim Belcher</a:t>
            </a:r>
            <a:endParaRPr b="1" lang="en-US"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gospel’ is the good news that through Jesus, the Messiah, the power of God’s kingdom has entered history to renew the whole world. Through the Savior God has established his reign. When we believe and rely on Jesus’ work and record (rather than ours) for our relationship to God, that kingdom power comes upon us and begins to work through us. We witness this radical new way of living by our renewed lives, beautiful community, social justice, and cultural transformation. The good news brings new life. The gospel motivates, guides, and empowers every aspect of our living and worship.” </a:t>
            </a:r>
            <a:endParaRPr b="0" lang="en-US" sz="24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ep Church: A Third Way Beyond Emerging and Traditional</a:t>
            </a:r>
            <a:r>
              <a:rPr b="0" lang="en-US"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ope Benedict XVI </a:t>
            </a:r>
            <a:endParaRPr b="1" lang="en-US" sz="3600" spc="-1" strike="noStrike">
              <a:solidFill>
                <a:srgbClr val="ff8d3e"/>
              </a:solidFill>
              <a:latin typeface="Verdana"/>
            </a:endParaRPr>
          </a:p>
        </p:txBody>
      </p:sp>
      <p:sp>
        <p:nvSpPr>
          <p:cNvPr id="242" name=""/>
          <p:cNvSpPr txBox="1"/>
          <p:nvPr/>
        </p:nvSpPr>
        <p:spPr>
          <a:xfrm>
            <a:off x="228240" y="456840"/>
            <a:ext cx="8458200" cy="5257800"/>
          </a:xfrm>
          <a:prstGeom prst="rect">
            <a:avLst/>
          </a:prstGeom>
          <a:noFill/>
          <a:ln w="0">
            <a:noFill/>
          </a:ln>
        </p:spPr>
        <p:txBody>
          <a:bodyPr lIns="182880" rIns="90000" tIns="91440" bIns="4680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t>
            </a:r>
            <a:r>
              <a:rPr b="0" lang="en-US" sz="1900" spc="-1" strike="noStrike">
                <a:solidFill>
                  <a:srgbClr val="000000"/>
                </a:solidFill>
                <a:latin typeface="Verdana"/>
              </a:rPr>
              <a:t>The term has recently been translated as ‘good news.’ That sounds attractive, but it falls far short of the order of magnitude of what is actually meant by the word evangelion. This term figures in the vocabulary of the Roman emperors, who understood themselves as lords, saviors, and redeemers of the world…. The idea was that what comes from the emperor is a saving message, that it is not just a piece of news, but a changing of the world for the better. “When the Evangelists adopt this word, and it thereby becomes the generic name for their writings, what they mean to tell us is this: What the emperors, who pretend to be gods, illegitimately claim, really occurs here – a message endowed with plenary authority, a message that is not just talk but reality…. the Gospel is not just informative speech, but performative speech – not just the imparting of information, but action, efficacious power that enters into the world to save and transform. Mark speaks of the ‘Gospel of God,’ the point being that it is not the emperors who can save the world, but God. And it is here that God’s word, which is at once word and deed, appears; it is here that what the emperors merely assert, but cannot actually perform, truly takes place. For here it is the real Lord of the world – the Living God – who goes into action. </a:t>
            </a:r>
            <a:endParaRPr b="0" lang="en-US" sz="19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t>
            </a:r>
            <a:r>
              <a:rPr b="0" lang="en-US" sz="1900" spc="-1" strike="noStrike">
                <a:solidFill>
                  <a:srgbClr val="000000"/>
                </a:solidFill>
                <a:latin typeface="Verdana"/>
              </a:rPr>
              <a:t>The core of the Gospel is this: The Kingdom of God is at hand.” </a:t>
            </a:r>
            <a:endParaRPr b="0" lang="en-US" sz="19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 Pope Benedict XVI, from </a:t>
            </a:r>
            <a:r>
              <a:rPr b="0" i="1" lang="en-US" sz="1500" spc="-1" strike="noStrike">
                <a:solidFill>
                  <a:srgbClr val="000000"/>
                </a:solidFill>
                <a:latin typeface="Verdana"/>
              </a:rPr>
              <a:t>Jesus of Nazareth</a:t>
            </a:r>
            <a:r>
              <a:rPr b="0" lang="en-US" sz="1500" spc="-1" strike="noStrike">
                <a:solidFill>
                  <a:srgbClr val="000000"/>
                </a:solidFill>
                <a:latin typeface="Verdana"/>
              </a:rPr>
              <a:t>, pgs. 46-47.</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im Keller</a:t>
            </a:r>
            <a:endParaRPr b="1" lang="en-US" sz="3600" spc="-1" strike="noStrike">
              <a:solidFill>
                <a:srgbClr val="ff8d3e"/>
              </a:solidFill>
              <a:latin typeface="Verdana"/>
            </a:endParaRPr>
          </a:p>
        </p:txBody>
      </p:sp>
      <p:sp>
        <p:nvSpPr>
          <p:cNvPr id="22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ough the person and work of Jesus Christ, God fully accomplishes salvation for us, rescuing us from judgment for sin into fellowship with him, and then restores the creation in which we can enjoy our new life together with him forever."</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Rectangle 4"/>
          <p:cNvSpPr/>
          <p:nvPr/>
        </p:nvSpPr>
        <p:spPr>
          <a:xfrm>
            <a:off x="995400" y="5791320"/>
            <a:ext cx="67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hristianitytoday.com/le/2008/spring/9.74.html?star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teve Timmis</a:t>
            </a: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esus Christ, God’s promised rescuer and ruler lived our life, died our death and rose again in triumphant vindication as the first-fruits of the new creation to bring forgiven sinners together by the Holy Spirit to live under his gracious reign as His Kingdom peop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N.T. Wright</a:t>
            </a:r>
            <a:endParaRPr b="1" lang="en-US" sz="3600" spc="-1" strike="noStrike">
              <a:solidFill>
                <a:srgbClr val="ff8d3e"/>
              </a:solidFill>
              <a:latin typeface="Verdana"/>
            </a:endParaRPr>
          </a:p>
        </p:txBody>
      </p:sp>
      <p:sp>
        <p:nvSpPr>
          <p:cNvPr id="22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gospel is the royal announcement that the crucified and risen Jesus, who died for our sins and rose again according to the Scriptures, has been enthroned as the true Lord of the world. When this gospel is preached, God calls people to salvation, out of sheer grace, leading them to repentance and faith in Jesus Christ as the risen Lord.”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a:t>
            </a:r>
            <a:r>
              <a:rPr b="0" lang="en-US" sz="2800" spc="-1" strike="noStrike">
                <a:solidFill>
                  <a:srgbClr val="000000"/>
                </a:solidFill>
                <a:latin typeface="Verdana"/>
              </a:rPr>
              <a:t>Christianity Today, June 200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ullian Tchividjian </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Gospel is the the good news that in and through Christ’s life, death, and resurrection, God makes all things new.”  - from Tullian’s Blog “The good news of the gospel is simply this: in the midst of our hopeless and helpless circumstance, God sent his Son, Jesus Christ, to save sinners like you and me.”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llian Tchividjian, </a:t>
            </a:r>
            <a:r>
              <a:rPr b="0" i="1" lang="en-US" sz="1600" spc="-1" strike="noStrike">
                <a:solidFill>
                  <a:srgbClr val="000000"/>
                </a:solidFill>
                <a:latin typeface="Verdana"/>
              </a:rPr>
              <a:t>Do I Know God</a:t>
            </a:r>
            <a:r>
              <a:rPr b="0" lang="en-US" sz="1600" spc="-1" strike="noStrike">
                <a:solidFill>
                  <a:srgbClr val="000000"/>
                </a:solidFill>
                <a:latin typeface="Verdana"/>
              </a:rPr>
              <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ick McKinley</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ometimes it seems as though we find two gospels in the New Testament–the gospel of Jesus and the gospel about Jesus. The gospel of Jesus is usually taken to mean His announcement of the kingdom and the life He embodied in His loving actions toward the world. The gospel about Jesus refers to his atoning work on the cross and His resurrection, through which we can receieve the forgiveness of sin through our faith and repentance. …</a:t>
            </a:r>
            <a:br>
              <a:rPr sz="2600"/>
            </a:br>
            <a:r>
              <a:rPr b="0" lang="en-US" sz="1500" spc="-1" strike="noStrike">
                <a:solidFill>
                  <a:srgbClr val="000000"/>
                </a:solidFill>
                <a:latin typeface="Verdana"/>
              </a:rPr>
              <a:t>- Rick McKinley, </a:t>
            </a:r>
            <a:r>
              <a:rPr b="0" i="1" lang="en-US" sz="1500" spc="-1" strike="noStrike">
                <a:solidFill>
                  <a:srgbClr val="000000"/>
                </a:solidFill>
                <a:latin typeface="Verdana"/>
              </a:rPr>
              <a:t>This Beautiful Mess</a:t>
            </a:r>
            <a:r>
              <a:rPr b="0" lang="en-US" sz="1500" spc="-1" strike="noStrike">
                <a:solidFill>
                  <a:srgbClr val="000000"/>
                </a:solidFill>
                <a:latin typeface="Verdana"/>
              </a:rPr>
              <a:t>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ick McKinley</a:t>
            </a:r>
            <a:endParaRPr b="1" lang="en-US" sz="3600" spc="-1" strike="noStrike">
              <a:solidFill>
                <a:srgbClr val="ff8d3e"/>
              </a:solidFill>
              <a:latin typeface="Verdana"/>
            </a:endParaRPr>
          </a:p>
        </p:txBody>
      </p:sp>
      <p:sp>
        <p:nvSpPr>
          <p:cNvPr id="234" name=""/>
          <p:cNvSpPr txBox="1"/>
          <p:nvPr/>
        </p:nvSpPr>
        <p:spPr>
          <a:xfrm>
            <a:off x="457200" y="380520"/>
            <a:ext cx="8229600" cy="525780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I believe, however, that the two are actually one gospel and that when we lose the tension that comes from holding both together, we experience an unhealthy and unbiblical pendulum swing in our faith. “If all we value is the salvation gospel, we tend to miss the rest of Christ’s message. Taken out of context of the kingdom, the call to faith in Christ gets reduced to something less than what the New Testament teaches. The reverse is also true: if we value a kingdom gospel at the expense of the liberating message of the Cross and the empty tomb and a call to repentance, we miss a central tenet of kingdom life. Without faith in Jesus, there is no transferring of our lives into the new world of the kingdom.” </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ndy Crouch</a:t>
            </a:r>
            <a:endParaRPr b="1" lang="en-US" sz="3600" spc="-1" strike="noStrike">
              <a:solidFill>
                <a:srgbClr val="ff8d3e"/>
              </a:solidFill>
              <a:latin typeface="Verdana"/>
            </a:endParaRPr>
          </a:p>
        </p:txBody>
      </p:sp>
      <p:sp>
        <p:nvSpPr>
          <p:cNvPr id="23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gospel is the proclamation of Jesus, in [two] senses. It is the proclamation announced by Jesus – the arrival of God’s realm of possibility (his “kingdom”) in the midst of human structures of possibility. But it is also the proclamation about Jesus – the good news that in dying and rising, Jesus has made the kingdom he proclaimed available to us.”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y Crouch, </a:t>
            </a:r>
            <a:r>
              <a:rPr b="0" i="1" lang="en-US" sz="1800" spc="-1" strike="noStrike">
                <a:solidFill>
                  <a:srgbClr val="000000"/>
                </a:solidFill>
                <a:latin typeface="Verdana"/>
              </a:rPr>
              <a:t>Culture Making</a:t>
            </a:r>
            <a:r>
              <a:rPr b="0" lang="en-US" sz="1800" spc="-1" strike="noStrike">
                <a:solidFill>
                  <a:srgbClr val="000000"/>
                </a:solidFill>
                <a:latin typeface="Verdana"/>
              </a:rPr>
              <a:t>, page 146 </a:t>
            </a:r>
            <a:endParaRPr b="0" lang="en-US" sz="1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Mark Dever</a:t>
            </a:r>
            <a:endParaRPr b="1" lang="en-US" sz="36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Here is what I understand the good news to be: the good news is that the one and only God, who is holy, made us in his image to know him. But we sinned and cut ourselves off from him. In his great love, God became a man in Jesus, lived a perfect life, and died on the cross, thus fulfilling the law himself and taking on himself the punishment for the sins of all those who would ever turn and trust in him. He rose again from the dead, showing that God accepted Christ’s sacrifice and that God’s wrath against us had been exhausted. He now calls us to repent of our sins and to trust in Christ alone for our forgiveness. If we repent of our sins and trust in Christ, we are born again into a new life, an eternal life with God. Now that is good news.” </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rom </a:t>
            </a:r>
            <a:r>
              <a:rPr b="0" i="1" lang="en-US" sz="2200" spc="-1" strike="noStrike">
                <a:solidFill>
                  <a:srgbClr val="000000"/>
                </a:solidFill>
                <a:latin typeface="Verdana"/>
              </a:rPr>
              <a:t>The Gospel and Personal Evangelism</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5:32:49Z</dcterms:created>
  <dc:creator>LBEARD</dc:creator>
  <dc:description/>
  <dc:language>en-US</dc:language>
  <cp:lastModifiedBy>Ed Stetzer</cp:lastModifiedBy>
  <dcterms:modified xsi:type="dcterms:W3CDTF">2009-11-16T19:09:39Z</dcterms:modified>
  <cp:revision>4</cp:revision>
  <dc:subject/>
  <dc:title>quotes</dc:title>
</cp:coreProperties>
</file>