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7051675" cy="93567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7052400" cy="9356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56040" cy="4683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dt" idx="1"/>
          </p:nvPr>
        </p:nvSpPr>
        <p:spPr>
          <a:xfrm>
            <a:off x="3995280" y="-360"/>
            <a:ext cx="3056040" cy="4683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sldImg"/>
          </p:nvPr>
        </p:nvSpPr>
        <p:spPr>
          <a:xfrm>
            <a:off x="1187280" y="701640"/>
            <a:ext cx="4678560" cy="3508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body"/>
          </p:nvPr>
        </p:nvSpPr>
        <p:spPr>
          <a:xfrm>
            <a:off x="704880" y="4444560"/>
            <a:ext cx="5643360" cy="42102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-360" y="8886960"/>
            <a:ext cx="3056040" cy="4680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3995280" y="8886960"/>
            <a:ext cx="3056040" cy="4680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A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BD55013F-D82F-4A1F-88D4-16D772CF25FC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87280" y="701640"/>
            <a:ext cx="4678560" cy="350856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04880" y="4444560"/>
            <a:ext cx="564336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995640" y="8886960"/>
            <a:ext cx="3056040" cy="46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19C888EB-A1FB-4085-A932-704F30432813}" type="slidenum">
              <a:rPr b="0" lang="en-A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87280" y="701640"/>
            <a:ext cx="4678560" cy="35085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04880" y="4444560"/>
            <a:ext cx="564336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Slide Number Placeholder 3"/>
          <p:cNvSpPr/>
          <p:nvPr/>
        </p:nvSpPr>
        <p:spPr>
          <a:xfrm>
            <a:off x="3995640" y="8886960"/>
            <a:ext cx="3056040" cy="46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840240DD-703B-4D3C-873E-E83A3D9BAB41}" type="slidenum">
              <a:rPr b="0" lang="en-A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87280" y="701640"/>
            <a:ext cx="4678560" cy="35085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04880" y="4444560"/>
            <a:ext cx="564336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3995640" y="8886960"/>
            <a:ext cx="3056040" cy="46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39A17898-6BE6-4A5A-B2CC-D883F5B9993B}" type="slidenum">
              <a:rPr b="0" lang="en-A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87280" y="701640"/>
            <a:ext cx="4678560" cy="35085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04880" y="4444560"/>
            <a:ext cx="564336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Slide Number Placeholder 3"/>
          <p:cNvSpPr/>
          <p:nvPr/>
        </p:nvSpPr>
        <p:spPr>
          <a:xfrm>
            <a:off x="3995640" y="8886960"/>
            <a:ext cx="3056040" cy="46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785B86F3-87AB-4C4C-B336-F999C0723C21}" type="slidenum">
              <a:rPr b="0" lang="en-A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87280" y="701640"/>
            <a:ext cx="4678560" cy="350856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704880" y="4444560"/>
            <a:ext cx="564336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3995640" y="8886960"/>
            <a:ext cx="3056040" cy="46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E75FDE93-7C4F-4DFD-8B7F-442FC11DAB9F}" type="slidenum">
              <a:rPr b="0" lang="en-A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87280" y="701640"/>
            <a:ext cx="4678560" cy="350856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04880" y="4444560"/>
            <a:ext cx="564336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3995640" y="8886960"/>
            <a:ext cx="3056040" cy="46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53157C2D-B096-4B72-860B-0DA851FF5ECA}" type="slidenum">
              <a:rPr b="0" lang="en-A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87280" y="701640"/>
            <a:ext cx="4678560" cy="350856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704880" y="4444560"/>
            <a:ext cx="564336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3995640" y="8886960"/>
            <a:ext cx="3056040" cy="46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5DD5A480-68D4-4537-9CD6-20680706C1F3}" type="slidenum">
              <a:rPr b="0" lang="en-A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87280" y="701640"/>
            <a:ext cx="4678560" cy="350856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704880" y="4444560"/>
            <a:ext cx="564336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995640" y="8886960"/>
            <a:ext cx="3056040" cy="46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A8277974-2336-49D0-A71F-1655AEF949A6}" type="slidenum">
              <a:rPr b="0" lang="en-A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87280" y="701640"/>
            <a:ext cx="4678560" cy="350856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704880" y="4444560"/>
            <a:ext cx="564336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995640" y="8886960"/>
            <a:ext cx="3056040" cy="46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FC7949E0-12EF-4734-A152-A1CFF654CBDF}" type="slidenum">
              <a:rPr b="0" lang="en-A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87280" y="701640"/>
            <a:ext cx="4678560" cy="350856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704880" y="4444560"/>
            <a:ext cx="564336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995640" y="8886960"/>
            <a:ext cx="3056040" cy="46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26C0B48A-BB82-4184-A42C-C0493CF778D5}" type="slidenum">
              <a:rPr b="0" lang="en-A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87280" y="701640"/>
            <a:ext cx="4678560" cy="350856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704880" y="4444560"/>
            <a:ext cx="564336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995640" y="8886960"/>
            <a:ext cx="3056040" cy="46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ABBB423C-DB74-4142-91BD-E2C23F8D7C9C}" type="slidenum">
              <a:rPr b="0" lang="en-A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87280" y="701640"/>
            <a:ext cx="4678560" cy="350856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704880" y="4444560"/>
            <a:ext cx="564336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995640" y="8886960"/>
            <a:ext cx="3056040" cy="46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E818A2E9-9056-4A3E-A79B-5FA34F18ACDB}" type="slidenum">
              <a:rPr b="0" lang="en-A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87280" y="701640"/>
            <a:ext cx="4678560" cy="350856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704880" y="4444560"/>
            <a:ext cx="564336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995640" y="8886960"/>
            <a:ext cx="3056040" cy="46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0A27DA6D-0630-4A9A-BAC7-8D328C6C34C9}" type="slidenum">
              <a:rPr b="0" lang="en-A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87280" y="701640"/>
            <a:ext cx="4678560" cy="350856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704880" y="4444560"/>
            <a:ext cx="564336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995640" y="8886960"/>
            <a:ext cx="3056040" cy="46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E64549BA-E877-45EE-8288-37E32C143C8A}" type="slidenum">
              <a:rPr b="0" lang="en-A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87280" y="701640"/>
            <a:ext cx="4678560" cy="350856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704880" y="4444560"/>
            <a:ext cx="564336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995640" y="8886960"/>
            <a:ext cx="3056040" cy="46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5CF07CDB-2C26-42B5-BEDA-8F556CE394A3}" type="slidenum">
              <a:rPr b="0" lang="en-A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87280" y="701640"/>
            <a:ext cx="4678560" cy="350856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704880" y="4444560"/>
            <a:ext cx="564336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995640" y="8886960"/>
            <a:ext cx="3056040" cy="46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F8D02587-8207-4EC3-9D15-F9B828EF701F}" type="slidenum">
              <a:rPr b="0" lang="en-A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87280" y="701640"/>
            <a:ext cx="4678560" cy="350856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704880" y="4444560"/>
            <a:ext cx="564336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995640" y="8886960"/>
            <a:ext cx="3056040" cy="46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2ECE9477-D845-4894-A70D-1ED8017D6513}" type="slidenum">
              <a:rPr b="0" lang="en-A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87280" y="701640"/>
            <a:ext cx="4678560" cy="350856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704880" y="4444560"/>
            <a:ext cx="564336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995640" y="8886960"/>
            <a:ext cx="3056040" cy="46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B3FDAC76-A6BD-4B0E-996F-761A99A99BD3}" type="slidenum">
              <a:rPr b="0" lang="en-A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87280" y="701640"/>
            <a:ext cx="4678560" cy="350856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704880" y="4444560"/>
            <a:ext cx="564336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995640" y="8886960"/>
            <a:ext cx="3056040" cy="46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D707F5EB-C058-49E2-B81B-111EC461E977}" type="slidenum">
              <a:rPr b="0" lang="en-A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87280" y="701640"/>
            <a:ext cx="4678560" cy="350856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704880" y="4444560"/>
            <a:ext cx="564336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995640" y="8886960"/>
            <a:ext cx="3056040" cy="46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1692A146-CDCD-41B9-B307-0B259FB44D38}" type="slidenum">
              <a:rPr b="0" lang="en-A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87280" y="701640"/>
            <a:ext cx="4678560" cy="350856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704880" y="4444560"/>
            <a:ext cx="564336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995640" y="8886960"/>
            <a:ext cx="3056040" cy="46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6B442C2D-844B-438E-A34B-0EC065808D63}" type="slidenum">
              <a:rPr b="0" lang="en-A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87280" y="701640"/>
            <a:ext cx="4678560" cy="350856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704880" y="4444560"/>
            <a:ext cx="564336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995640" y="8886960"/>
            <a:ext cx="3056040" cy="46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F65A2B79-3D9F-4956-A1ED-604D86016386}" type="slidenum">
              <a:rPr b="0" lang="en-A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87280" y="701640"/>
            <a:ext cx="4678560" cy="350856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704880" y="4444560"/>
            <a:ext cx="564336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995640" y="8886960"/>
            <a:ext cx="3056040" cy="46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E18DC620-1369-47A8-BED5-67FAB3345B05}" type="slidenum">
              <a:rPr b="0" lang="en-A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87280" y="701640"/>
            <a:ext cx="4678560" cy="350856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704880" y="4444560"/>
            <a:ext cx="564336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995640" y="8886960"/>
            <a:ext cx="3056040" cy="46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FD7CD3A4-E1FF-40CB-B926-F08FCC0A0DEB}" type="slidenum">
              <a:rPr b="0" lang="en-A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87280" y="701640"/>
            <a:ext cx="4678560" cy="350856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704880" y="4444560"/>
            <a:ext cx="564336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995640" y="8886960"/>
            <a:ext cx="3056040" cy="46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3E503D91-D8B3-463D-B922-AD42EDB0E0DE}" type="slidenum">
              <a:rPr b="0" lang="en-A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87280" y="701640"/>
            <a:ext cx="4678560" cy="350856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704880" y="4444560"/>
            <a:ext cx="564336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995640" y="8886960"/>
            <a:ext cx="3056040" cy="46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E4A7C5C4-1264-419D-8E58-49A1F3CB6969}" type="slidenum">
              <a:rPr b="0" lang="en-A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90520" y="700200"/>
            <a:ext cx="4678560" cy="35082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04880" y="4444560"/>
            <a:ext cx="5643360" cy="42116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roduce Trainer, Introduce Participants?  Anyone plant church they are pastoring?  Involved in plant? Daughtering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verview Clin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ologetics: Why Ques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paration: How do we get our church interested in church planting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wnership: How do we get our church to plan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ategy: What model and funding will we 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sessment: Selecting the right planter and pl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cess: How do we establish a healthy parenting process so we do it again and again.  It is not a one time experi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87280" y="701640"/>
            <a:ext cx="4678560" cy="350856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04880" y="4444560"/>
            <a:ext cx="564336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3995640" y="8886960"/>
            <a:ext cx="3056040" cy="46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3494E97D-B420-44D8-85E2-6611450AACEB}" type="slidenum">
              <a:rPr b="0" lang="en-A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87280" y="701640"/>
            <a:ext cx="4678560" cy="350856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704880" y="4444560"/>
            <a:ext cx="564336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3995640" y="8886960"/>
            <a:ext cx="3056040" cy="46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160023B3-5976-4CE2-B421-CCEAC0061AA9}" type="slidenum">
              <a:rPr b="0" lang="en-A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87280" y="701640"/>
            <a:ext cx="4678560" cy="350856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04880" y="4444560"/>
            <a:ext cx="564336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995640" y="8886960"/>
            <a:ext cx="3056040" cy="46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459733C5-983D-43AB-A095-2513C6773FD3}" type="slidenum">
              <a:rPr b="0" lang="en-A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87280" y="701640"/>
            <a:ext cx="4678560" cy="350856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704880" y="4444560"/>
            <a:ext cx="564336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3995640" y="8886960"/>
            <a:ext cx="3056040" cy="46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342BDF7A-ECED-4C3D-9750-02DD27F75463}" type="slidenum">
              <a:rPr b="0" lang="en-A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87280" y="701640"/>
            <a:ext cx="4678560" cy="350856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04880" y="4444560"/>
            <a:ext cx="564336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3995640" y="8886960"/>
            <a:ext cx="3056040" cy="46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F82108AB-116E-4B75-ABD9-7CF15311B6C1}" type="slidenum">
              <a:rPr b="0" lang="en-A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87280" y="701640"/>
            <a:ext cx="4678560" cy="350856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704880" y="4444560"/>
            <a:ext cx="564336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Slide Number Placeholder 3"/>
          <p:cNvSpPr/>
          <p:nvPr/>
        </p:nvSpPr>
        <p:spPr>
          <a:xfrm>
            <a:off x="3995640" y="8886960"/>
            <a:ext cx="3056040" cy="46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FF89E54A-3DF8-4DF7-AC97-EA38690A8398}" type="slidenum">
              <a:rPr b="0" lang="en-A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38000" y="115560"/>
            <a:ext cx="833436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38000" y="1557000"/>
            <a:ext cx="83343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738000" y="4190040"/>
            <a:ext cx="83343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38000" y="115560"/>
            <a:ext cx="833436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38000" y="1557000"/>
            <a:ext cx="40669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08680" y="1557000"/>
            <a:ext cx="40669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38000" y="4190040"/>
            <a:ext cx="40669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008680" y="4190040"/>
            <a:ext cx="40669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38000" y="115560"/>
            <a:ext cx="833436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38000" y="1557000"/>
            <a:ext cx="2683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556080" y="1557000"/>
            <a:ext cx="2683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374160" y="1557000"/>
            <a:ext cx="2683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738000" y="4190040"/>
            <a:ext cx="2683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556080" y="4190040"/>
            <a:ext cx="2683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374160" y="4190040"/>
            <a:ext cx="2683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738000" y="115560"/>
            <a:ext cx="833436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738000" y="1557000"/>
            <a:ext cx="83343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38000" y="115560"/>
            <a:ext cx="833436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738000" y="1557000"/>
            <a:ext cx="83343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38000" y="115560"/>
            <a:ext cx="833436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38000" y="1557000"/>
            <a:ext cx="40669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008680" y="1557000"/>
            <a:ext cx="40669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38000" y="115560"/>
            <a:ext cx="833436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738000" y="115560"/>
            <a:ext cx="8334360" cy="601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38000" y="115560"/>
            <a:ext cx="833436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38000" y="1557000"/>
            <a:ext cx="40669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008680" y="1557000"/>
            <a:ext cx="40669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738000" y="4190040"/>
            <a:ext cx="40669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38000" y="115560"/>
            <a:ext cx="833436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738000" y="1557000"/>
            <a:ext cx="83343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38000" y="115560"/>
            <a:ext cx="833436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38000" y="1557000"/>
            <a:ext cx="40669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008680" y="1557000"/>
            <a:ext cx="40669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008680" y="4190040"/>
            <a:ext cx="40669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38000" y="115560"/>
            <a:ext cx="833436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38000" y="1557000"/>
            <a:ext cx="40669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08680" y="1557000"/>
            <a:ext cx="40669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738000" y="4190040"/>
            <a:ext cx="83343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38000" y="115560"/>
            <a:ext cx="833436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38000" y="1557000"/>
            <a:ext cx="83343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738000" y="4190040"/>
            <a:ext cx="83343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38000" y="115560"/>
            <a:ext cx="833436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38000" y="1557000"/>
            <a:ext cx="40669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08680" y="1557000"/>
            <a:ext cx="40669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738000" y="4190040"/>
            <a:ext cx="40669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5008680" y="4190040"/>
            <a:ext cx="40669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38000" y="115560"/>
            <a:ext cx="833436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38000" y="1557000"/>
            <a:ext cx="2683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556080" y="1557000"/>
            <a:ext cx="2683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374160" y="1557000"/>
            <a:ext cx="2683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738000" y="4190040"/>
            <a:ext cx="2683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556080" y="4190040"/>
            <a:ext cx="2683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374160" y="4190040"/>
            <a:ext cx="2683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38000" y="115560"/>
            <a:ext cx="833436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738000" y="1557000"/>
            <a:ext cx="83343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38000" y="115560"/>
            <a:ext cx="833436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38000" y="1557000"/>
            <a:ext cx="40669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008680" y="1557000"/>
            <a:ext cx="40669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38000" y="115560"/>
            <a:ext cx="833436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738000" y="115560"/>
            <a:ext cx="8334360" cy="601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38000" y="115560"/>
            <a:ext cx="833436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38000" y="1557000"/>
            <a:ext cx="40669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08680" y="1557000"/>
            <a:ext cx="40669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738000" y="4190040"/>
            <a:ext cx="40669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38000" y="115560"/>
            <a:ext cx="833436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38000" y="1557000"/>
            <a:ext cx="40669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08680" y="1557000"/>
            <a:ext cx="40669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008680" y="4190040"/>
            <a:ext cx="40669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38000" y="115560"/>
            <a:ext cx="833436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38000" y="1557000"/>
            <a:ext cx="40669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08680" y="1557000"/>
            <a:ext cx="40669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38000" y="4190040"/>
            <a:ext cx="83343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38000" y="1557000"/>
            <a:ext cx="83343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eeece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c0504d"/>
              </a:buClr>
              <a:buSzPct val="7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901"/>
              </a:spcBef>
              <a:buClr>
                <a:srgbClr val="4f81b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901"/>
              </a:spcBef>
              <a:buClr>
                <a:srgbClr val="4f81b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901"/>
              </a:spcBef>
              <a:buClr>
                <a:srgbClr val="4f81b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90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90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738000" y="115560"/>
            <a:ext cx="833436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body"/>
          </p:nvPr>
        </p:nvSpPr>
        <p:spPr>
          <a:xfrm>
            <a:off x="738000" y="1557000"/>
            <a:ext cx="83343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eeece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c0504d"/>
              </a:buClr>
              <a:buSzPct val="7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901"/>
              </a:spcBef>
              <a:buClr>
                <a:srgbClr val="4f81b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901"/>
              </a:spcBef>
              <a:buClr>
                <a:srgbClr val="4f81b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901"/>
              </a:spcBef>
              <a:buClr>
                <a:srgbClr val="4f81b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90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90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title"/>
          </p:nvPr>
        </p:nvSpPr>
        <p:spPr>
          <a:xfrm>
            <a:off x="738000" y="115560"/>
            <a:ext cx="833436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hyperlink" Target="http://churchmultiplicationnetwork.com/mx9/" TargetMode="External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38400" y="4539960"/>
            <a:ext cx="7772400" cy="87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State of Church Planting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in the U.S. Today</a:t>
            </a:r>
            <a:endParaRPr b="1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62240" y="5664240"/>
            <a:ext cx="778176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Leadership Network Research Projec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38000" y="115560"/>
            <a:ext cx="833436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801720" y="1660680"/>
            <a:ext cx="8005680" cy="494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eeece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f81bd"/>
                </a:solidFill>
                <a:latin typeface="Times New Roman"/>
              </a:rPr>
              <a:t>More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money from the national agency correlates with </a:t>
            </a:r>
            <a:r>
              <a:rPr b="1" lang="en-US" sz="3600" spc="-1" strike="noStrike">
                <a:solidFill>
                  <a:srgbClr val="4f81bd"/>
                </a:solidFill>
                <a:latin typeface="Times New Roman"/>
              </a:rPr>
              <a:t>a lower percentage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f churches that become parent church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38000" y="115560"/>
            <a:ext cx="833436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Observations</a:t>
            </a:r>
            <a:endParaRPr b="1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801720" y="1660680"/>
            <a:ext cx="8005680" cy="494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eeece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Local churches traditionally place a value on planting churches similar to themselves—and tend to do so through direct “mothering” or sponsorship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38000" y="115560"/>
            <a:ext cx="833436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Budgeting and Funding</a:t>
            </a:r>
            <a:endParaRPr b="1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801720" y="1660680"/>
            <a:ext cx="8005680" cy="494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eeece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hurches that aggressively pursue church planting have a number of financial factors in common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38000" y="115560"/>
            <a:ext cx="833436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Church planting churches…</a:t>
            </a:r>
            <a:endParaRPr b="1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801720" y="1660680"/>
            <a:ext cx="8005680" cy="494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eeece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xpect new planters to raise a sizeable amount of the church planting budget (50 percent – 80 percent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38000" y="115560"/>
            <a:ext cx="833436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Aggressive, reproducing churches </a:t>
            </a:r>
            <a:endParaRPr b="1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801720" y="1660680"/>
            <a:ext cx="8005680" cy="494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eeece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rovide less financial support than do less-aggressive church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38000" y="115560"/>
            <a:ext cx="833436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801720" y="1660680"/>
            <a:ext cx="8005680" cy="494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eeece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more money a parent church puts into a single church plant, the fewer number of churches they actually planted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38000" y="115560"/>
            <a:ext cx="833436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More-aggressive parent churches</a:t>
            </a:r>
            <a:endParaRPr b="1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801720" y="1660680"/>
            <a:ext cx="8005680" cy="494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eeece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ssigned 10 percent or more of the church’s overall budget to domestic church plantin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38000" y="115560"/>
            <a:ext cx="833436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Staffing and partnerships</a:t>
            </a:r>
            <a:endParaRPr b="1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801720" y="1660680"/>
            <a:ext cx="8005680" cy="494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eeece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ne-third of larger churches had paid staff assigned to church planting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38000" y="115560"/>
            <a:ext cx="833436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Church planting staff</a:t>
            </a:r>
            <a:endParaRPr b="1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801720" y="1660680"/>
            <a:ext cx="8005680" cy="494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eeece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ost of these staff spent less than 50 percent of their time focused on church planting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38000" y="115560"/>
            <a:ext cx="833436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801720" y="1660680"/>
            <a:ext cx="8005680" cy="494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eeece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re is however a positive correlation between the number of staff who assist with church planting and the number of churches planted by that church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38000" y="115560"/>
            <a:ext cx="833436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549440" y="1368000"/>
            <a:ext cx="75945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rends in Church Multiplic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38000" y="115560"/>
            <a:ext cx="833436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801720" y="1660680"/>
            <a:ext cx="8005680" cy="494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eeece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re is a direct correlation between the senior pastor’s commitment to church planting and the church’s ability to plant successfully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38000" y="115560"/>
            <a:ext cx="833436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801720" y="1660680"/>
            <a:ext cx="8005680" cy="494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eeece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more staff involved in church planting, the trend is for the church to become more involved with other partners and provider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38000" y="115560"/>
            <a:ext cx="833436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01720" y="1660680"/>
            <a:ext cx="8005680" cy="494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eeece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more rapidly a church grows, the more likely they seem to initiate or become involved with a para-church church-planting network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38000" y="115560"/>
            <a:ext cx="833436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801720" y="1660680"/>
            <a:ext cx="8005680" cy="494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eeece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hurches that were 200 or less in attendance were four times more likely to plant a church than churches of 1000 or more in attendance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eeece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hurches between 200–500 in attendance were twice as likely to plant a church than their larger counterpart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38000" y="115560"/>
            <a:ext cx="833436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801720" y="1660680"/>
            <a:ext cx="8005680" cy="494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eeece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more partners and service providers a parent church worked with the more churches they planted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38000" y="115560"/>
            <a:ext cx="833436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801720" y="1660680"/>
            <a:ext cx="8005680" cy="494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eeece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 “reproducing, multi-staff, high-impact style” church plant seems to be more popular with larger churches, and parallels the number of partners and providers with whom they associate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eeece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38000" y="115560"/>
            <a:ext cx="833436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Recruitment, Assessment, &amp; Training</a:t>
            </a:r>
            <a:endParaRPr b="1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01720" y="1660680"/>
            <a:ext cx="8005680" cy="494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eeece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hurches that reported aggressive church planting results viewed assessment, training, encouragement, coaching, and mentoring </a:t>
            </a:r>
            <a:r>
              <a:rPr b="1" lang="en-US" sz="3600" spc="-1" strike="noStrike">
                <a:solidFill>
                  <a:srgbClr val="4f81bd"/>
                </a:solidFill>
                <a:latin typeface="Times New Roman"/>
              </a:rPr>
              <a:t>as more important and strategic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than financial support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38000" y="115560"/>
            <a:ext cx="833436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01720" y="1660680"/>
            <a:ext cx="8005680" cy="494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eeece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hurch-planting churches self-perceived role is to prepare the planter for the work in the field and to press him to self-sufficiency. There is a lot of freedom given to church planters to determine methodologies and form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38000" y="115560"/>
            <a:ext cx="833436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Vision and Value</a:t>
            </a:r>
            <a:endParaRPr b="1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01720" y="1660680"/>
            <a:ext cx="8005680" cy="494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eeece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 shared trait is the importance of </a:t>
            </a:r>
            <a:r>
              <a:rPr b="1" lang="en-US" sz="3600" spc="-1" strike="noStrike">
                <a:solidFill>
                  <a:srgbClr val="4f81bd"/>
                </a:solidFill>
                <a:latin typeface="Times New Roman"/>
              </a:rPr>
              <a:t>articulating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vision and value of church planting to the church body through </a:t>
            </a:r>
            <a:r>
              <a:rPr b="1" lang="en-US" sz="3600" spc="-1" strike="noStrike">
                <a:solidFill>
                  <a:srgbClr val="4f81bd"/>
                </a:solidFill>
                <a:latin typeface="Times New Roman"/>
              </a:rPr>
              <a:t>multiple levels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f mass communication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38000" y="115560"/>
            <a:ext cx="833436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801720" y="1660680"/>
            <a:ext cx="8005680" cy="494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eeece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uccess is conveyed in terms of personal involvement by its membership through prayer, financial giving and being sent out as a part of the planting core group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38000" y="115560"/>
            <a:ext cx="833436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Transition to “local”</a:t>
            </a:r>
            <a:endParaRPr b="1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38000" y="1557000"/>
            <a:ext cx="83343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t is clear that the energy of successful church planting is moving quickly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from </a:t>
            </a:r>
            <a:r>
              <a:rPr b="1" lang="en-US" sz="4000" spc="-1" strike="noStrike">
                <a:solidFill>
                  <a:srgbClr val="4f81bd"/>
                </a:solidFill>
                <a:latin typeface="Times New Roman"/>
              </a:rPr>
              <a:t>denominational</a:t>
            </a:r>
            <a:r>
              <a:rPr b="0" lang="en-US" sz="4000" spc="-1" strike="noStrike">
                <a:solidFill>
                  <a:srgbClr val="4f81bd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tructures to the more hands-on </a:t>
            </a:r>
            <a:r>
              <a:rPr b="1" lang="en-US" sz="4000" spc="-1" strike="noStrike">
                <a:solidFill>
                  <a:srgbClr val="4f81bd"/>
                </a:solidFill>
                <a:latin typeface="Times New Roman"/>
              </a:rPr>
              <a:t>local churches and networks.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38000" y="115560"/>
            <a:ext cx="833436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01720" y="1660680"/>
            <a:ext cx="8005680" cy="494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eeece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value of church planting is expressed as the most effective means of evangelism that a church can participate in for the expansion of God’s Kingdom and the fulfillment of the Great Commission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eeece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38000" y="115560"/>
            <a:ext cx="833436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801720" y="1660680"/>
            <a:ext cx="8005680" cy="494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eeece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lead pastors encourage staff participation through lending their expertise in their particular ministry area to the church-planting efforts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38000" y="115560"/>
            <a:ext cx="833436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Analysis</a:t>
            </a:r>
            <a:endParaRPr b="1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801720" y="1679040"/>
            <a:ext cx="8005680" cy="494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eeece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hurch-planting churches consistently reported a goal to create self-sufficient church planters and church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38000" y="115560"/>
            <a:ext cx="833436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801720" y="1660680"/>
            <a:ext cx="8005680" cy="494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eeece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ost of them do not fund heavily. Rather, they place the planter into a great amount of training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eeece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38000" y="115560"/>
            <a:ext cx="833436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What is a Church Planting Church?</a:t>
            </a:r>
            <a:endParaRPr b="1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38000" y="1557000"/>
            <a:ext cx="83343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eeece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o your church's founding documents or published vision, mission, values and strategy documents identify church planting as a key component of your church's vision?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38000" y="115560"/>
            <a:ext cx="833436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DNA + 2 of the following:</a:t>
            </a:r>
            <a:endParaRPr b="1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38000" y="1252440"/>
            <a:ext cx="8334360" cy="534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ece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oes your church regularly send members out to help with church plant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eece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oes your church give 5% or more of your annual budget to support direct church planting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eece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oes your church have a Church Planting Director or Coordinator on staff? (full or part-tim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eece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o you have a church planter internship or residency program?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64840" y="3149280"/>
            <a:ext cx="833436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How are people getting other churches involved in church planting?</a:t>
            </a:r>
            <a:br>
              <a:rPr sz="4000"/>
            </a:b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38000" y="115560"/>
            <a:ext cx="833436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Assemblies of God (AG)</a:t>
            </a:r>
            <a:endParaRPr b="1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738000" y="1557000"/>
            <a:ext cx="83343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189000" y="1825560"/>
            <a:ext cx="8955000" cy="439416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MX9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31920" y="3027240"/>
            <a:ext cx="1400040" cy="309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38000" y="115560"/>
            <a:ext cx="833436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Evangelical Free Church</a:t>
            </a:r>
            <a:endParaRPr b="1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90320" y="2021040"/>
            <a:ext cx="8334360" cy="50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eeece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eproducing Clinic 101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eeece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n Introduction To Church Multiplic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38000" y="115560"/>
            <a:ext cx="833436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Evangelical Free Church</a:t>
            </a:r>
            <a:endParaRPr b="1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738000" y="1557000"/>
            <a:ext cx="83343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ix Critical Questions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91120" indent="-591120">
              <a:spcBef>
                <a:spcPts val="901"/>
              </a:spcBef>
              <a:buClr>
                <a:srgbClr val="ffffff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y start new churches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91120" indent="-591120">
              <a:spcBef>
                <a:spcPts val="901"/>
              </a:spcBef>
              <a:buClr>
                <a:srgbClr val="ffffff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ow do we prepare to parent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91120" indent="-591120">
              <a:spcBef>
                <a:spcPts val="901"/>
              </a:spcBef>
              <a:buClr>
                <a:srgbClr val="ffffff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ow do we get our church to plant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91120" indent="-591120">
              <a:spcBef>
                <a:spcPts val="901"/>
              </a:spcBef>
              <a:buClr>
                <a:srgbClr val="ffffff"/>
              </a:buClr>
              <a:buSzPct val="85000"/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ow do we design our basic strategy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91120" indent="-591120">
              <a:spcBef>
                <a:spcPts val="901"/>
              </a:spcBef>
              <a:buClr>
                <a:srgbClr val="ffffff"/>
              </a:buClr>
              <a:buSzPct val="85000"/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ow do we select right planter &amp; place?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91120" indent="-591120">
              <a:spcBef>
                <a:spcPts val="901"/>
              </a:spcBef>
              <a:buClr>
                <a:srgbClr val="ffffff"/>
              </a:buClr>
              <a:buSzPct val="85000"/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ow do we establish a healthy parenting process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38000" y="115560"/>
            <a:ext cx="833436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Evangelistic Effectiveness</a:t>
            </a:r>
            <a:endParaRPr b="1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38000" y="1557000"/>
            <a:ext cx="83343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is generation of church planting leaders is committed to increasing not only the </a:t>
            </a:r>
            <a:r>
              <a:rPr b="1" lang="en-US" sz="4000" spc="-1" strike="noStrike">
                <a:solidFill>
                  <a:srgbClr val="4f81bd"/>
                </a:solidFill>
                <a:latin typeface="Times New Roman"/>
              </a:rPr>
              <a:t>survivability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and </a:t>
            </a:r>
            <a:r>
              <a:rPr b="1" lang="en-US" sz="4000" spc="-1" strike="noStrike">
                <a:solidFill>
                  <a:srgbClr val="4f81bd"/>
                </a:solidFill>
                <a:latin typeface="Times New Roman"/>
              </a:rPr>
              <a:t>multiplication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of church plants but also the </a:t>
            </a:r>
            <a:r>
              <a:rPr b="1" lang="en-US" sz="4000" spc="-1" strike="noStrike">
                <a:solidFill>
                  <a:srgbClr val="4f81bd"/>
                </a:solidFill>
                <a:latin typeface="Times New Roman"/>
              </a:rPr>
              <a:t>evangelistic</a:t>
            </a:r>
            <a:r>
              <a:rPr b="1" lang="en-US" sz="4000" spc="-1" strike="noStrike">
                <a:solidFill>
                  <a:srgbClr val="9bbb59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4f81bd"/>
                </a:solidFill>
                <a:latin typeface="Times New Roman"/>
              </a:rPr>
              <a:t>effectiveness</a:t>
            </a:r>
            <a:r>
              <a:rPr b="1" lang="en-US" sz="4000" spc="-1" strike="noStrike">
                <a:solidFill>
                  <a:srgbClr val="9bbb59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of those plants.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38000" y="115560"/>
            <a:ext cx="833436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NAMB</a:t>
            </a:r>
            <a:endParaRPr b="1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738000" y="1557000"/>
            <a:ext cx="83343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958680" y="1527120"/>
            <a:ext cx="7097760" cy="507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38000" y="115560"/>
            <a:ext cx="833436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738000" y="1557000"/>
            <a:ext cx="83343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-2158920"/>
            <a:ext cx="9693360" cy="1184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38000" y="115560"/>
            <a:ext cx="833436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Books on Multiplication: </a:t>
            </a:r>
            <a:endParaRPr b="1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738000" y="1557000"/>
            <a:ext cx="83343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ece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The Multiplying Church: The New Math for Starting New Churche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(Bob Robert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eece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Be Fruitful and Multipl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(Bob Logan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eece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Churches That Multiply: A Bible Study on Church Planting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(Elmer Towns and Douglas Porter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eece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The Ripple Church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(Phil Stevenson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eece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The Dynamic Daughter Church Planting Handbook (Paul Becker and Mark William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38000" y="115560"/>
            <a:ext cx="833436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alibri"/>
              </a:rPr>
              <a:t>Church Planting Systems</a:t>
            </a:r>
            <a:endParaRPr b="1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38000" y="1557000"/>
            <a:ext cx="83343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eece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f81bd"/>
                </a:solidFill>
                <a:latin typeface="Times New Roman"/>
              </a:rPr>
              <a:t>assessment, basic training, coaching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lants using these systems are more likely to reach unchurched and grow more quickly than plants who do not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38000" y="115560"/>
            <a:ext cx="833436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alibri"/>
              </a:rPr>
              <a:t>Resources</a:t>
            </a:r>
            <a:endParaRPr b="1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38000" y="1557000"/>
            <a:ext cx="83343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eece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hurch plants that grow </a:t>
            </a:r>
            <a:r>
              <a:rPr b="1" lang="en-US" sz="4000" spc="-1" strike="noStrike">
                <a:solidFill>
                  <a:srgbClr val="4f81bd"/>
                </a:solidFill>
                <a:latin typeface="Times New Roman"/>
              </a:rPr>
              <a:t>larger, more quickly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, tend to be more heavily resourced and staffed than those that do not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38000" y="115560"/>
            <a:ext cx="833436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Funding</a:t>
            </a:r>
            <a:endParaRPr b="1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801720" y="1660680"/>
            <a:ext cx="8005680" cy="494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eeece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hurch planting emphasis is shifting from the initiative and oversight of a national or regional agency to that of a local church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38000" y="115560"/>
            <a:ext cx="833436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The shift</a:t>
            </a:r>
            <a:endParaRPr b="1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801720" y="1660680"/>
            <a:ext cx="8005680" cy="494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re is a trend where funding rests on the shoulders of the parent church and the church planter with the national agencies providing no more then 33 percent (or less) of funding need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38000" y="115560"/>
            <a:ext cx="833436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National support</a:t>
            </a:r>
            <a:endParaRPr b="1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801720" y="1660680"/>
            <a:ext cx="8005680" cy="494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eeece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re appears to be a trended correlation between the amount of money the national agency contributes to each church plant and the number of parent churches in that denomination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8T02:43:32Z</dcterms:created>
  <dc:creator>LB</dc:creator>
  <dc:description/>
  <dc:language>en-US</dc:language>
  <cp:lastModifiedBy>estetze</cp:lastModifiedBy>
  <dcterms:modified xsi:type="dcterms:W3CDTF">2008-04-25T01:23:56Z</dcterms:modified>
  <cp:revision>44</cp:revision>
  <dc:subject/>
  <dc:title>Slide 1</dc:title>
</cp:coreProperties>
</file>