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7E1-7C80-49AC-A910-0E449B048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0B5E-0EBF-4274-ACC3-DB45E59C8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103F-1348-4507-BD06-6D1826567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F73-7128-404C-AECC-CABBE7162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AF5-DA2C-4553-A43A-B2747D709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55C-52A7-4540-A1AF-30841F4DA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7FC9-C0E9-4525-B5D4-511A35DAC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DBE-A724-41DE-8616-6013DD54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788-AA3B-43CC-AEA4-B281489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A698B-906D-4909-8A06-66B604D3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370E1-F3DE-499C-BEF3-66E9746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D6E45-8269-4478-A9AA-CED8D2FC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80A14-8A8B-499B-A5FD-451E796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8EC85-CA7E-4C7D-A01F-A7F8E2F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84D3B-8E25-4D5C-B3A4-48A16EF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F3EB3-193E-4A1B-AB80-9D0D53DC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E15D-AE51-4FD8-952E-5FF9FAA7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FD035-6702-48D7-8C76-0D830132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9D9-3D6A-4C94-BE2C-F6AAD1C2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B34-0F52-45BA-8E60-47D8A6D2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0D0D-7B4A-495A-A96C-FA6BD1D3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9ED3-DE38-4B63-83B2-A4F9A73C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185-7FCE-425E-9C56-56D44E6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2B3-5BDB-4AEF-BFAC-EE5C99BA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DF97-BB2E-4666-B6F5-D57A1BDF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E09-454E-4132-B230-B61380D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A701-7D50-4F02-9EE4-77652D85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0D4-72FE-41F6-87E3-7F9372D6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672-EB4F-49C3-9779-6713B9E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8A60-8500-489E-B7B6-0916712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A73-9124-43B9-8EF1-903010B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D74-F031-47BD-829E-BB27295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6521-AFBD-4AC5-A3B8-11DD587F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BDFB-B4F4-4617-822A-EAA206FA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3EBB-C789-47F6-9542-3F4F4D98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C55C-7D62-487A-B130-DDC73F68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73DB-81BC-4EC6-9B84-11A74BE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92AB-A4E9-40FD-A50D-D73EB145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664-6C7D-4572-830C-38DF5CEB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7079-C6D4-47FF-A334-6CC4AC1C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4DBC-D749-4601-9B9C-9416EBC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55FB-EC7B-4EBF-98E2-52C3E20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90AD-C23A-4B30-9B0A-117E5B7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0C06-A5FC-4AEC-8427-FC58D8F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366C-E164-4FE7-8B49-A9328D27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0FAA-0B60-450B-B890-4933093B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8685-6FB2-4197-8183-3E9E375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CCC3-053D-4A78-8E87-CEF8315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F5DA-7754-4AC1-9E0E-C400B7D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0C1-9C27-4D07-836E-C41D75F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70BA-B1CD-442E-B808-3F6F106A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CF84-0C93-489D-B5E5-8083F12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895A-962C-4B2B-8248-E8589595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7AC2-0E5F-4136-A664-BE3B788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4862-D431-4219-8B30-090CE58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9E3E-F20A-4C3A-AEC3-7BC0F5F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B612-8CBA-4C45-B40E-D9DCDB1C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2E30-C4C2-4277-8928-2AFBB1D6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8E589-BD7C-48DA-81BE-1256E597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C315F-3067-48D0-8369-49FFAE4B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5E2-0632-4758-A4EE-F7460BF3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98B2-9E54-4B76-8AB3-3A5E1272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6464-CE4F-4B92-801E-F23C8A1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4424-7080-4612-B4B6-0BB639D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8F1E-7F10-4614-B858-FDE4FDD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E9F6-400B-4FE1-AB34-241AC25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AF42-9BBE-4CC9-A839-8A6869E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8857-8FC6-4EBD-8A66-C1AF906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B914-C029-4A5E-A660-7C5A955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597C-F4FA-4E04-9C3B-DBDFD893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636B-C76D-4445-A874-E49D0EED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9B3-56DB-4983-9739-0779CCBD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F924-5693-421C-91C3-06DB9D96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6024-645A-4910-ABA6-18C24E58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AEB4-99B6-44F5-84E3-E2CAAA8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9CBD-84F1-4AEC-AFB1-240B0CE9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2C93-FEE1-4E1B-81DA-DDF6F20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E803-CB25-43F4-9AA9-EDDDA65C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E8E7-83C7-4359-A8C7-3ECC02BB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E335-4AFF-4F7A-AD77-E84C4217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66D0-F920-4474-80F1-AB4B1FE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3C8F-D022-44B5-9796-ACE539C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292-90DB-441F-BD05-99659F3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FA071-5A6D-45DE-95B9-53C40AC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9B0B-47DE-4EB4-AC32-B79D6DBA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1CE6-A889-46F0-83E1-75A946B4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7F29-D407-4656-8EEA-6C116E31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19C88-F692-4136-946E-10951F39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165A-5DFD-45D1-B4F4-8AAA55F2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8B46-5A9F-44D7-87C2-0ACEA1D5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7A57-565E-40DC-8E4E-E9A18BA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4300-BF31-40A9-BB05-F63BE97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B322-5D37-4922-9F4F-D0CBD67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1B5-7A6E-4280-B51F-77B0434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99410-0E27-479B-8F4E-3CB67880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37C3-42D8-4AE6-AED0-A2F29D8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BA26-2EA5-4A02-B73B-BDFAD8D8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1053-D749-432E-B864-F5E28133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C0AD1-60A8-452C-9217-9FA87922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A177-4B18-4D9A-8585-B4D58C58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CBB3-4D8C-424D-AF01-55CF1D55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11C0-D49C-4562-AE08-8C7CD389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2ED8-A465-4A9C-93E8-00C6E10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817F-471C-4005-813A-B82E25B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69E-BD00-4792-BABE-9B3D9AB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8C97B-9529-4F70-BBCD-0FE80FB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DA126-40AD-4ABE-AEEC-0D185E4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DF4C2-497D-452E-A74A-DF5E284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D2A1-2DC0-4B6C-AF53-58DE1AE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B8F6E-4580-4F7C-A83C-C49CEFD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7513E-6E3D-4D24-9AF4-DDCF750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B577-9DDA-4561-B98A-387587E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4D7C-B09E-45A4-955B-864EE08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AFD45-F7E6-4285-B157-B6D3A77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2517B-D177-4A4B-AF84-E6890E8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AE1-9BC1-4240-BFE6-2EF85F04563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25FD-5EED-4421-9930-B9C4A75BF58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3CB-036A-472E-8F7A-F668A06B432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989-DA86-4A63-9699-A0407836599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5E3-93D5-4B40-AB09-886974510E4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2E6-878F-40BC-8F43-EFF69CF013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08A9-D1DB-414E-A57B-45D3736761B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C426-9952-4529-9170-D4DDFF73E23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CE0-499D-4181-8364-CC31494B86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5486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Ron Sylvi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500 pastors leave the ministry each month due to moral failure, spiritual burnout, or conflict in their churches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50% of pastors are so discouraged that they would leave the ministry if they could, but have no other way of making a living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lmost 40% of pastors polled said they have had an extra-marital affair since beginning their ministry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The Lonely Pastor syndrom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Most Pastors do not have a safe place to go for answers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ar Leadership Meltdow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ultant Sear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ick Warren emai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-12 Experi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rpose Driven Pilot Networ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ached 300 pastors in networks over last 5 yea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0 AM – 4 PM, one day per month for 6 month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re Compon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evo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ellowship ele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adership Develop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urch Evalu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urch Planter Training Ele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essure Poin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ay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rt with a Crow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oose your coaches careful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d around a common 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 the Farm Team Syste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arge the Pastors something to atten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aluate, Evaluate, Evalua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91216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urch Planting Network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xt Level Networks (Strategic Leadership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Generation Networks (Church Planting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yond the Conference Network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4:51:43Z</dcterms:created>
  <dc:creator>Ron Sylvia</dc:creator>
  <dc:description/>
  <dc:language>en-US</dc:language>
  <cp:lastModifiedBy>Ron Sylvia</cp:lastModifiedBy>
  <dcterms:modified xsi:type="dcterms:W3CDTF">2008-04-21T15:22:30Z</dcterms:modified>
  <cp:revision>4</cp:revision>
  <dc:subject/>
  <dc:title>Coaching Networks</dc:title>
</cp:coreProperties>
</file>