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395F-BF0E-4A01-8E8A-9AFC0D49C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CB91-865D-4AD0-84DA-350FDEAB1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564C-5749-4F06-B94F-FA3A7E563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6EC4-9608-47AA-AA0B-6A3B3DD9A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CB8E-2EDC-49BB-A6A9-731A6FDCC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A319-79B9-4051-B8A6-353A12266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A8B6-9105-41FE-909F-FD4CDEEF5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46B1-68AC-432F-ACA2-BCDF60FE0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B567-514C-4D58-B376-F0D008A1B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1824-7DDA-4467-A249-BB6E3E2AF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0F3A-05B8-47BB-ADFD-DF56F570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A926-18BA-42BF-BE63-A0CC440DC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457200" y="304920"/>
            <a:ext cx="8229600" cy="10666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Zekton Free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36ED-5718-49A0-BD99-B3C1243251F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380880" y="2514600"/>
            <a:ext cx="8398080" cy="3048120"/>
            <a:chOff x="380880" y="2514600"/>
            <a:chExt cx="8398080" cy="3048120"/>
          </a:xfrm>
        </p:grpSpPr>
        <p:sp>
          <p:nvSpPr>
            <p:cNvPr id="42" name="Rectangle 8"/>
            <p:cNvSpPr/>
            <p:nvPr/>
          </p:nvSpPr>
          <p:spPr>
            <a:xfrm>
              <a:off x="380880" y="2514600"/>
              <a:ext cx="8398080" cy="30481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9"/>
            <p:cNvSpPr/>
            <p:nvPr/>
          </p:nvSpPr>
          <p:spPr>
            <a:xfrm>
              <a:off x="452520" y="2556360"/>
              <a:ext cx="8229600" cy="296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0"/>
            <p:cNvSpPr/>
            <p:nvPr/>
          </p:nvSpPr>
          <p:spPr>
            <a:xfrm>
              <a:off x="914400" y="4226400"/>
              <a:ext cx="7315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Zekton Free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95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Zekton Free"/>
              </a:rPr>
              <a:t>Networks</a:t>
            </a:r>
            <a:endParaRPr b="0" lang="en-US" sz="80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4419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 Free Condensed"/>
              </a:rPr>
              <a:t>Church Planting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 Free Condensed"/>
              </a:rPr>
              <a:t>From a Leadership Network Research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Network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76520"/>
            <a:ext cx="7924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roup of churches that have publicly acknowledged that they are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ntionall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ing together for the purpose of church planting and have a cooperative strategy to accomplish that goal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Relationships as Catalyst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rademark characteristic – emphasis on the ongoing relationship with the planter and church-planting enti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Two types of networks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er-denominationa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a-denominationa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6027480" y="2933640"/>
            <a:ext cx="2501280" cy="3080880"/>
            <a:chOff x="6027480" y="2933640"/>
            <a:chExt cx="2501280" cy="3080880"/>
          </a:xfrm>
        </p:grpSpPr>
        <p:pic>
          <p:nvPicPr>
            <p:cNvPr id="108" name="Oval 4" descr=""/>
            <p:cNvPicPr/>
            <p:nvPr/>
          </p:nvPicPr>
          <p:blipFill>
            <a:blip r:embed="rId2"/>
            <a:stretch/>
          </p:blipFill>
          <p:spPr>
            <a:xfrm rot="21599400">
              <a:off x="6117840" y="3118680"/>
              <a:ext cx="2410560" cy="289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Oval 5"/>
            <p:cNvGrpSpPr/>
            <p:nvPr/>
          </p:nvGrpSpPr>
          <p:grpSpPr>
            <a:xfrm>
              <a:off x="6027480" y="2933640"/>
              <a:ext cx="2154600" cy="1505160"/>
              <a:chOff x="6027480" y="2933640"/>
              <a:chExt cx="2154600" cy="1505160"/>
            </a:xfrm>
          </p:grpSpPr>
          <p:pic>
            <p:nvPicPr>
              <p:cNvPr id="110" name="Oval 5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6027480" y="3025800"/>
                <a:ext cx="2154240" cy="131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22800">
                <a:off x="6406200" y="3259080"/>
                <a:ext cx="139716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Local Church </a:t>
            </a: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 Network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localNet from Northwood Chur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lobal Outreach from Spanish River Chur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Assessment and Training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fined processes f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sessment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raining, an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sisting the church planter with a new plan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Applicants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tworks generally accept 20 percent of those who apply to their church planting program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20 applicants / ye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pprovals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5 / ye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19520" y="1676520"/>
            <a:ext cx="5867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one looks at people who are called to do it and want to do the same, even if they are not called. If I can talk guys out of it, I can save them a lot of hardship.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~ Ron Sylvi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Driven Church Pla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Acts 29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n-line &amp; phone interview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% of those are declined during the face-to-face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5% of original applicants go on to plant Acts 29 chur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0 men in process n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Process 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Relationship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Assessment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300" spc="-1" strike="noStrike">
                <a:solidFill>
                  <a:srgbClr val="ffffff"/>
                </a:solidFill>
                <a:latin typeface="Tahoma"/>
              </a:rPr>
              <a:t>Philosophical Connectedness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Theological Compatibilit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300" spc="-1" strike="noStrike">
                <a:solidFill>
                  <a:srgbClr val="ffffff"/>
                </a:solidFill>
                <a:latin typeface="Tahoma"/>
              </a:rPr>
              <a:t>Network Chemist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Boot Camp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Possible Fun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oach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Tahoma"/>
              </a:rPr>
              <a:t>On-going Connectedness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0" y="685800"/>
            <a:ext cx="38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italics=network empha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Ministry Paradigm 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issiology: common term and driving force with net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Study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45 church-planting net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4 in-person interview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5 over the ph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6 on-line survey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Style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o prescribed formula/style required by most net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st indicated they were a local expression of the community planted 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ny of the plants look more like network than their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Budgets and Funding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fferent than denomination support or church planting chur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Annual Budget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120" y="1676520"/>
            <a:ext cx="6248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for networks: $592,13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PPP_IFINA_CLP_CashRegister_c.png"/>
          <p:cNvPicPr/>
          <p:nvPr/>
        </p:nvPicPr>
        <p:blipFill>
          <a:blip r:embed="rId2"/>
          <a:stretch/>
        </p:blipFill>
        <p:spPr>
          <a:xfrm>
            <a:off x="3730680" y="2084400"/>
            <a:ext cx="5224320" cy="101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Two “budget groupings”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ss than $1,000,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0% of networks surve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verage $182,5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ver $1,000,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% of networks surve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verage $1,775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Zekton Free"/>
              </a:rPr>
              <a:t>Average support for new plant</a:t>
            </a:r>
            <a:endParaRPr b="0" lang="en-US" sz="40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$172,20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ported amount typically combined resources from network and other supporters of the planter/pl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High End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vereign Grace - $110,000-$120,000 for average church pl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60,000 from Sovereign Grace mission f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rest from tithes and offerings of the founding fami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Reproduction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#/year has increased for networks over the past 6 ye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9 to 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Possible reasons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50 percent of existing networks are gradually increasing the number of churches they plant each year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large number of new networks have started since 2003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new networks are planting more churches / year and growing more rapidly per year than existing netwo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Team Planting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ny groups won’t allow a lone pastor, however there is still a primary focus on having a lead planter within the tea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 networks require the entire team to be assessed, while others require only the lead planter, and then they let him develop his own tea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Successes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tworks report that 93 percent of the churches they begin become established church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attendance of 143 by the 1-year anniversar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Zekton Free"/>
              </a:rPr>
              <a:t>Observations</a:t>
            </a:r>
            <a:endParaRPr b="0" lang="en-US" sz="6000" spc="-1" strike="noStrike">
              <a:solidFill>
                <a:srgbClr val="ffffff"/>
              </a:solidFill>
              <a:latin typeface="Zekton Fr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Local churches…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ant churches like themselv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rect “mothering” or sponsor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Denominations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produce common denominationalist chur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Zekton Free"/>
              </a:rPr>
              <a:t>Independent Organizations</a:t>
            </a:r>
            <a:endParaRPr b="0" lang="en-US" sz="3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570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rted by catalytic leaders who think beyond local church planting and differently than denomination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Born from…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deolog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Theolog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dependence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Entrepreneurial spiri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Kingdom mentalit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Frustration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Vision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all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Need for something different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Networks vary in … 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olo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cclesiolog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Zekton Free"/>
              </a:rPr>
              <a:t>Networks share</a:t>
            </a:r>
            <a:endParaRPr b="0" lang="en-US" sz="4800" spc="-1" strike="noStrike">
              <a:solidFill>
                <a:srgbClr val="ffffff"/>
              </a:solidFill>
              <a:latin typeface="Zekton Fre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assion for planting churches of “similar DNA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PPP_IBUSI_CLP_BullsEye_c.png"/>
          <p:cNvPicPr/>
          <p:nvPr/>
        </p:nvPicPr>
        <p:blipFill>
          <a:blip r:embed="rId2"/>
          <a:stretch/>
        </p:blipFill>
        <p:spPr>
          <a:xfrm rot="177600">
            <a:off x="5027760" y="297000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35:43Z</dcterms:created>
  <dc:creator>Jason</dc:creator>
  <dc:description/>
  <dc:language>en-US</dc:language>
  <cp:lastModifiedBy>estetze</cp:lastModifiedBy>
  <dcterms:modified xsi:type="dcterms:W3CDTF">2008-04-25T01:15:48Z</dcterms:modified>
  <cp:revision>11</cp:revision>
  <dc:subject/>
  <dc:title>The Basic Outline</dc:title>
</cp:coreProperties>
</file>