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0369C-9F2F-4E60-A25D-CCB1F3F21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F71F8-CAA9-4022-A318-717A1E35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F6704-20A0-4013-ADE8-A8DEF421A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B6DC2-2A25-4B63-920B-0D4A468DB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20D0-FF99-4096-AC93-A7B013575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5467-6B07-42D3-BDCB-F7C17A74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2AB3-EBF7-4D3F-8601-A96F3932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E33A-F8ED-4CAF-ADAB-173BCBE4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8D959-D8CD-44CB-A5D2-1F29BAF4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FB55-8518-4C1E-8655-3F0D41F5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B3516-283A-47A4-9FF1-8F676B0B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E4DB3-F8A0-468C-84F0-82C294C1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07BF9-3422-4ADB-A995-91E72618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8317-1092-4AEE-AE05-5C45AD63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A332-9A68-4ACF-A8D3-E51CA4F2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0CC95-D421-4387-8838-BD3BEACBD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A604-E6B1-4ABC-B208-5757087A5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DDD82-787F-4287-B95B-7BA4CE15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BAABC-3669-43BD-A9D0-01A18454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903A6-A4DE-4F5B-98DF-7CB2879C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6BA26-9928-4971-A4F8-78DB98BE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76B43-5C4C-46AA-9E3D-A5EBAF0F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448F3-E351-4F73-BFE9-9E3F87AE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BE267-A6A7-4D67-8EBC-2122C4F4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8ECF-FF47-4E07-BCAD-77DBD74B5E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8F70-B434-4286-8C26-B26AA0F86A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Nuts and Bolt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e5e5ff"/>
                </a:solidFill>
                <a:latin typeface="Arial Narrow"/>
              </a:rPr>
              <a:t>“</a:t>
            </a:r>
            <a:r>
              <a:rPr b="1" lang="en-US" sz="4500" spc="-1" strike="noStrike">
                <a:solidFill>
                  <a:srgbClr val="e5e5ff"/>
                </a:solidFill>
                <a:latin typeface="Arial Narrow"/>
              </a:rPr>
              <a:t>With </a:t>
            </a:r>
            <a:r>
              <a:rPr b="1" lang="en-US" sz="4500" spc="-1" strike="noStrike" u="sng">
                <a:solidFill>
                  <a:srgbClr val="e5e5ff"/>
                </a:solidFill>
                <a:uFillTx/>
                <a:latin typeface="Arial Narrow"/>
              </a:rPr>
              <a:t>whom</a:t>
            </a:r>
            <a:r>
              <a:rPr b="1" lang="en-US" sz="4500" spc="-1" strike="noStrike">
                <a:solidFill>
                  <a:srgbClr val="e5e5ff"/>
                </a:solidFill>
                <a:latin typeface="Arial Narrow"/>
              </a:rPr>
              <a:t> will this church be planted?”</a:t>
            </a:r>
            <a:endParaRPr b="1" lang="en-US" sz="4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Describe the proposed launch tea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nclude a profile of any confirmed ministry partner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Define the specific roles to fil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learly identify team members needed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e5e5ff"/>
                </a:solidFill>
                <a:latin typeface="Arial Narrow"/>
              </a:rPr>
              <a:t>“</a:t>
            </a:r>
            <a:r>
              <a:rPr b="1" lang="en-US" sz="4200" spc="-1" strike="noStrike" u="sng">
                <a:solidFill>
                  <a:srgbClr val="e5e5ff"/>
                </a:solidFill>
                <a:uFillTx/>
                <a:latin typeface="Arial Narrow"/>
              </a:rPr>
              <a:t>How</a:t>
            </a:r>
            <a:r>
              <a:rPr b="1" lang="en-US" sz="4200" spc="-1" strike="noStrike">
                <a:solidFill>
                  <a:srgbClr val="e5e5ff"/>
                </a:solidFill>
                <a:latin typeface="Arial Narrow"/>
              </a:rPr>
              <a:t> and </a:t>
            </a:r>
            <a:r>
              <a:rPr b="1" lang="en-US" sz="4200" spc="-1" strike="noStrike" u="sng">
                <a:solidFill>
                  <a:srgbClr val="e5e5ff"/>
                </a:solidFill>
                <a:uFillTx/>
                <a:latin typeface="Arial Narrow"/>
              </a:rPr>
              <a:t>when</a:t>
            </a:r>
            <a:r>
              <a:rPr b="1" lang="en-US" sz="4200" spc="-1" strike="noStrike">
                <a:solidFill>
                  <a:srgbClr val="e5e5ff"/>
                </a:solidFill>
                <a:latin typeface="Arial Narrow"/>
              </a:rPr>
              <a:t> will this church be planted?”</a:t>
            </a: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utline a comprehensive strategic pl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nclude a detailed timeline for the first 18-36 month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ovide a detailed explanation of how the core group will be gathere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e5e5ff"/>
                </a:solidFill>
                <a:latin typeface="Garamond"/>
              </a:rPr>
              <a:t>Sources of funds:</a:t>
            </a:r>
            <a:endParaRPr b="1" lang="en-US" sz="51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artnership Funding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is type of funding is dependent upon relationships formed with denominational organizations and churches through cooperative agreemen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e5e5ff"/>
                </a:solidFill>
                <a:latin typeface="Garamond"/>
              </a:rPr>
              <a:t>Source of funds:</a:t>
            </a:r>
            <a:endParaRPr b="1" lang="en-US" sz="51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putation: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is type of funding is raised by the church planting team sharing the vision of the new church with churches and individual Christia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5e5ff"/>
                </a:solidFill>
                <a:latin typeface="Garamond"/>
              </a:rPr>
              <a:t>Understand 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otential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argets for deputation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Fund raising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incipl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otentia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giv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5e5ff"/>
                </a:solidFill>
                <a:latin typeface="Garamond"/>
              </a:rPr>
              <a:t>Understand 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otentia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giv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Givers don't like to pay the bill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Givers don't respond to guilt and negativism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Givers don't respond well to "needs," because need motivates negatively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Givers respond to visions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Givers respond to </a:t>
            </a: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Big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vision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e5e5ff"/>
                </a:solidFill>
                <a:latin typeface="Garamond"/>
              </a:rPr>
              <a:t>Logan &amp; Ogne-More Light</a:t>
            </a:r>
            <a:endParaRPr b="1" lang="en-US" sz="57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ople give because they have a personal relationshi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believe in the caus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content of communicati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method of communicati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e5e5ff"/>
                </a:solidFill>
                <a:latin typeface="Garamond"/>
              </a:rPr>
              <a:t>Understand</a:t>
            </a:r>
            <a:endParaRPr b="1" lang="en-US" sz="51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Some of the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oblem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in Fund Raising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problem of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id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problem of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ear</a:t>
            </a:r>
            <a:br>
              <a:rPr sz="4800"/>
            </a:br>
            <a:br>
              <a:rPr sz="4800"/>
            </a:b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5e5ff"/>
                </a:solidFill>
                <a:latin typeface="Garamond"/>
              </a:rPr>
              <a:t>Understand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Biblical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rinciples of giving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od blesses ou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acrifi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You cannot out-giv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Go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You cannot lose what you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hoos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give away.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e5e5ff"/>
                </a:solidFill>
                <a:latin typeface="Garamond"/>
              </a:rPr>
              <a:t>A seven-step plan for fund raising</a:t>
            </a: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Robert Logan and Steven L. Ogne  (</a:t>
            </a:r>
            <a:r>
              <a:rPr b="1" i="1" lang="en-US" sz="1200" spc="-1" strike="noStrike">
                <a:solidFill>
                  <a:srgbClr val="ffffff"/>
                </a:solidFill>
                <a:latin typeface="Garamond"/>
              </a:rPr>
              <a:t>Churches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Garamond"/>
              </a:rPr>
              <a:t>Planting Churches,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1995,  7 - 9-10) present a seven step plan for fund raising: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dentify potential donor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ake personal contact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hare the vision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sk for financial support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e5e5ff"/>
                </a:solidFill>
                <a:latin typeface="Garamond"/>
              </a:rPr>
              <a:t>The Basics</a:t>
            </a:r>
            <a:endParaRPr b="1" lang="en-US" sz="51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very new church needs initial financial support.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2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church planter must be able to devote time and energy to the church plant.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2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You need to develop a prospectus and pla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e5e5ff"/>
                </a:solidFill>
                <a:latin typeface="Garamond"/>
              </a:rPr>
              <a:t>A seven-step plan for fund raising</a:t>
            </a: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Robert Logan and Steven L. Ogne  (</a:t>
            </a:r>
            <a:r>
              <a:rPr b="1" i="1" lang="en-US" sz="1200" spc="-1" strike="noStrike">
                <a:solidFill>
                  <a:srgbClr val="ffffff"/>
                </a:solidFill>
                <a:latin typeface="Garamond"/>
              </a:rPr>
              <a:t>Churches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Garamond"/>
              </a:rPr>
              <a:t>Planting Churches,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1995,  7 - 9-10) present a seven step plan for fund raising: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ank the potential donor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mmediate follow-up is importan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aintain regular contact with  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donor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5e5ff"/>
                </a:solidFill>
                <a:latin typeface="Garamond"/>
              </a:rPr>
              <a:t>The new </a:t>
            </a:r>
            <a:r>
              <a:rPr b="0" lang="en-US" sz="6600" spc="-1" strike="noStrike" u="sng">
                <a:solidFill>
                  <a:srgbClr val="e5e5ff"/>
                </a:solidFill>
                <a:uFillTx/>
                <a:latin typeface="Garamond"/>
              </a:rPr>
              <a:t>congregation</a:t>
            </a:r>
            <a:r>
              <a:rPr b="0" lang="en-US" sz="6600" spc="-1" strike="noStrike">
                <a:solidFill>
                  <a:srgbClr val="e5e5ff"/>
                </a:solidFill>
                <a:latin typeface="Garamond"/>
              </a:rPr>
              <a:t>: 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 new church core should quickly become the primary means of support of the church.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e5e5ff"/>
                </a:solidFill>
                <a:uFillTx/>
                <a:latin typeface="Garamond"/>
              </a:rPr>
              <a:t>Employment</a:t>
            </a:r>
            <a:r>
              <a:rPr b="0" lang="en-US" sz="6600" spc="-1" strike="noStrike">
                <a:solidFill>
                  <a:srgbClr val="e5e5ff"/>
                </a:solidFill>
                <a:latin typeface="Garamond"/>
              </a:rPr>
              <a:t>: 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 many instances it may be necessary for the church planter and/or team to supplement the ministry through outside employmen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5e5ff"/>
                </a:solidFill>
                <a:latin typeface="Garamond"/>
              </a:rPr>
              <a:t>Understand 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the principles of handling all contributions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04560" y="1523520"/>
            <a:ext cx="88390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account withou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safeguard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8080" indent="-38088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reasur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38080" indent="-38088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inancial Secreta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38080" indent="-38088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un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560" y="1676160"/>
            <a:ext cx="883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2120" indent="-76212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Neve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sign a check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62120" indent="-76212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Give to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ission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from the first undesignated offeri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e5e5ff"/>
                </a:solidFill>
                <a:latin typeface="Garamond"/>
              </a:rPr>
              <a:t>Typical </a:t>
            </a:r>
            <a:r>
              <a:rPr b="1" lang="en-US" sz="4500" spc="-1" strike="noStrike" u="sng">
                <a:solidFill>
                  <a:srgbClr val="e5e5ff"/>
                </a:solidFill>
                <a:uFillTx/>
                <a:latin typeface="Garamond"/>
              </a:rPr>
              <a:t>start up</a:t>
            </a:r>
            <a:r>
              <a:rPr b="1" lang="en-US" sz="4500" spc="-1" strike="noStrike">
                <a:solidFill>
                  <a:srgbClr val="e5e5ff"/>
                </a:solidFill>
                <a:latin typeface="Garamond"/>
              </a:rPr>
              <a:t> costs:</a:t>
            </a:r>
            <a:endParaRPr b="1" lang="en-US" sz="4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utreach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acility rent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oun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ide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aterial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alari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How much do you nee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e5e5ff"/>
                </a:solidFill>
                <a:latin typeface="Garamond"/>
              </a:rPr>
              <a:t>Financial Support - Church </a:t>
            </a:r>
            <a:r>
              <a:rPr b="1" lang="en-US" sz="4500" spc="-1" strike="noStrike" u="sng">
                <a:solidFill>
                  <a:srgbClr val="e5e5ff"/>
                </a:solidFill>
                <a:uFillTx/>
                <a:latin typeface="Garamond"/>
              </a:rPr>
              <a:t>Starter</a:t>
            </a:r>
            <a:endParaRPr b="1" lang="en-US" sz="4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nominational Suppor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other Church Suppor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luster Church Suppor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i-vocational Church Starte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eam Approach to Suppor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inisters of Mission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terested Dono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5e5ff"/>
                </a:solidFill>
                <a:latin typeface="Garamond"/>
              </a:rPr>
              <a:t>Fund Raising</a:t>
            </a:r>
            <a:r>
              <a:rPr b="0" lang="en-US" sz="66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996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church planter needs to become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fund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raiser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, seeking sources for support of the church outside direct denominational line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 key to this is developing a church planting proposal. 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5e5ff"/>
                </a:solidFill>
                <a:latin typeface="Garamond"/>
              </a:rPr>
              <a:t>Proposal Contents: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Documents"/>
          <p:cNvSpPr/>
          <p:nvPr/>
        </p:nvSpPr>
        <p:spPr>
          <a:xfrm rot="1299600">
            <a:off x="3200400" y="2362320"/>
            <a:ext cx="3352680" cy="3886200"/>
          </a:xfrm>
          <a:prstGeom prst="pie">
            <a:avLst/>
          </a:prstGeom>
          <a:solidFill>
            <a:srgbClr val="a886e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“</a:t>
            </a:r>
            <a:r>
              <a:rPr b="1" lang="en-US" sz="6000" spc="-1" strike="noStrike" u="sng">
                <a:solidFill>
                  <a:srgbClr val="e5e5ff"/>
                </a:solidFill>
                <a:uFillTx/>
                <a:latin typeface="Garamond"/>
              </a:rPr>
              <a:t>Why</a:t>
            </a: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 start a new church?”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Demonstrate a clear cal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municate an exciting vi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dentify good reasons for church plan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Demonstrate an understanding of the need for new churches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e5e5ff"/>
                </a:solidFill>
                <a:latin typeface="Garamond"/>
              </a:rPr>
              <a:t>“</a:t>
            </a:r>
            <a:r>
              <a:rPr b="1" lang="en-US" sz="4500" spc="-1" strike="noStrike" u="sng">
                <a:solidFill>
                  <a:srgbClr val="e5e5ff"/>
                </a:solidFill>
                <a:uFillTx/>
                <a:latin typeface="Garamond"/>
              </a:rPr>
              <a:t>Who</a:t>
            </a:r>
            <a:r>
              <a:rPr b="1" lang="en-US" sz="4500" spc="-1" strike="noStrike">
                <a:solidFill>
                  <a:srgbClr val="e5e5ff"/>
                </a:solidFill>
                <a:latin typeface="Garamond"/>
              </a:rPr>
              <a:t> is the ministry focus group?”</a:t>
            </a:r>
            <a:endParaRPr b="1" lang="en-US" sz="4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escribe the ministry focus grou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how understanding of the community's nee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clude appropriate demographic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dentify the proposed loc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e5e5ff"/>
                </a:solidFill>
                <a:latin typeface="Garamond"/>
              </a:rPr>
              <a:t>“</a:t>
            </a:r>
            <a:r>
              <a:rPr b="1" lang="en-US" sz="5100" spc="-1" strike="noStrike" u="sng">
                <a:solidFill>
                  <a:srgbClr val="e5e5ff"/>
                </a:solidFill>
                <a:uFillTx/>
                <a:latin typeface="Garamond"/>
              </a:rPr>
              <a:t>What</a:t>
            </a:r>
            <a:r>
              <a:rPr b="1" lang="en-US" sz="5100" spc="-1" strike="noStrike">
                <a:solidFill>
                  <a:srgbClr val="e5e5ff"/>
                </a:solidFill>
                <a:latin typeface="Garamond"/>
              </a:rPr>
              <a:t> kind of church?”</a:t>
            </a:r>
            <a:endParaRPr b="1" lang="en-US" sz="51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learly state your core valu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tate and expand your mission stat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Describe the church's ministry sty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Define a ministry mod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ncludes a ministry flowchart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3:23:36Z</dcterms:created>
  <dc:creator>estetze</dc:creator>
  <dc:description/>
  <dc:language>en-US</dc:language>
  <cp:lastModifiedBy>estetze</cp:lastModifiedBy>
  <dcterms:modified xsi:type="dcterms:W3CDTF">2008-04-25T01:53:50Z</dcterms:modified>
  <cp:revision>2</cp:revision>
  <dc:subject/>
  <dc:title>Nuts and Bolts</dc:title>
</cp:coreProperties>
</file>