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25520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39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264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248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264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248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982D-B658-4F0D-AFA2-99C50DA1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BCC1-293D-4BF4-AE02-D315A069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EB937-BE69-46E2-A561-F20419E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B41B-9F66-407A-876A-514E9B6A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683D8-87A0-457F-9523-5724EBE6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94920" y="333000"/>
            <a:ext cx="76964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D66EB-AA93-4CDA-A935-E1CCBE91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417AC-0F41-4B3C-8280-1F133558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39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6E92B-D81E-4CC1-9B74-055003C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5472D-13BF-4B46-9C59-3AF16E5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25520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1A02-E1BD-48FE-A68B-C9AB221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39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3C7A-5FC3-4F7A-98A5-17D92231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264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92480" y="177336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264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92480" y="4255200"/>
            <a:ext cx="2551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3DF11-6574-4C87-BFB0-6883AF03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4920" y="333000"/>
            <a:ext cx="76964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3960" y="425520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3960" y="1773360"/>
            <a:ext cx="3867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255200"/>
            <a:ext cx="79246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96360" indent="-18972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4120" indent="-18972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4120" indent="-18972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4120" indent="-18972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244920"/>
            <a:ext cx="7924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05 – 2006 Dr. Ed Stetzer, excerpts from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Breaking the Missional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393D-3C50-4041-861E-AA2786596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Breaking the Missional Code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itions to Missional Minist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719136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church congregation should function like a human body. 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1 Cor. 12:12-20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edf2"/>
                </a:solidFill>
                <a:latin typeface="Tahoma"/>
              </a:rPr>
              <a:t>The church as a body</a:t>
            </a:r>
            <a:endParaRPr b="1" lang="en-US" sz="4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52200"/>
            <a:ext cx="81532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very part is influenced by every other par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“body” of Christ is one unit that operates through a series of system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52200"/>
            <a:ext cx="792504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Program orientation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—assumes the health of the overall system and does not see the various programs as interactive and interdependent.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Program orientation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refore…it is destined to be ineffectiv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83818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only exceptions will be those churches with a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process-focused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proach or if the overall body of a church just “happens” to be healthy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mographics to Discernment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807696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980s – Elmer Towns launched the highly successful seminar– “How to Reach the Baby Boomers.”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mographics to Discernment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8001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enerational approaches no longer work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mographics to Discernment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719136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growing diversity of our society is resistant to pigeonholing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mographics to Discernment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719136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Demographic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re not the answer.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e need to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deciph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he individual communities to which God has sent u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mographics to Discernment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852200"/>
            <a:ext cx="8001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astors are spending more time asking </a:t>
            </a:r>
            <a:r>
              <a:rPr b="1" i="1" lang="en-US" sz="4000" spc="-1" strike="noStrike">
                <a:solidFill>
                  <a:srgbClr val="859b6b"/>
                </a:solidFill>
                <a:latin typeface="Tahoma"/>
              </a:rPr>
              <a:t>why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he people in their community have not yet responded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edf2"/>
                </a:solidFill>
                <a:latin typeface="Tahoma"/>
              </a:rPr>
              <a:t>Change…</a:t>
            </a:r>
            <a:endParaRPr b="1" lang="en-US" sz="4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lways happens, and most change is out of our control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853452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t is easy to try and copy the models of others because we want to copy their success in our own contex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8001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tead of importing styles and models, more pastors are asking the same questions that international missionaries d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79246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What styl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of worship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/music will best help this group to worship in spirit and truth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852200"/>
            <a:ext cx="83818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What evangelism method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hould I use here to reach the most people without compromising the gospel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79246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What structure of churc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would best connect with this community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8001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How can </a:t>
            </a:r>
            <a:r>
              <a:rPr b="1" i="1" lang="en-US" sz="4000" spc="-1" strike="noStrike">
                <a:solidFill>
                  <a:srgbClr val="859b6b"/>
                </a:solidFill>
                <a:latin typeface="Tahoma"/>
              </a:rPr>
              <a:t>this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 churc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be God’s missionary to this community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Models to Mission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852200"/>
            <a:ext cx="84582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Christology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hould shape our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missiology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nd should shape our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ecclesiology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~Frost &amp; Hirsch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Shaping of Things to Come: Innovation and Mission for the Twenty-First Century Church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Attractional to Incarnational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52200"/>
            <a:ext cx="830592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leaders that move from attracting prospects to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incarnating the gospel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re the ones breaking the cod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Attractional to Incarnational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58672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church that is incarnational is interested more in the </a:t>
            </a:r>
            <a:r>
              <a:rPr b="1" i="1" lang="en-US" sz="4000" spc="-1" strike="noStrike">
                <a:solidFill>
                  <a:srgbClr val="859b6b"/>
                </a:solidFill>
                <a:latin typeface="Tahoma"/>
              </a:rPr>
              <a:t>harvest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han in the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barn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rural, trees, lifestyle, juniper, hillside, dry, fields, hay, landscape, bales, summer, barn, harvest, machinery, farm, arid, combines"/>
          <p:cNvPicPr/>
          <p:nvPr/>
        </p:nvPicPr>
        <p:blipFill>
          <a:blip r:embed="rId2"/>
          <a:stretch/>
        </p:blipFill>
        <p:spPr>
          <a:xfrm>
            <a:off x="6095880" y="1905120"/>
            <a:ext cx="2853000" cy="4267080"/>
          </a:xfrm>
          <a:prstGeom prst="rect">
            <a:avLst/>
          </a:prstGeom>
          <a:ln w="34920">
            <a:solidFill>
              <a:srgbClr val="859b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Uniformity to Diversity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52200"/>
            <a:ext cx="79246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oday, people are realizing that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God is using many different kinds of method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and model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o reach different kinds of peopl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059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edf2"/>
                </a:solidFill>
                <a:latin typeface="Tahoma"/>
              </a:rPr>
              <a:t>What we can control…</a:t>
            </a:r>
            <a:endParaRPr b="1" lang="en-US" sz="4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 our response to a changing cultur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Caucasian, hands, human, frustration, snapping, close up, pencil, yellow, broken, lead, holding, snapped, close-up, closeup, breaking, wood, person, anger, fingers"/>
          <p:cNvPicPr/>
          <p:nvPr/>
        </p:nvPicPr>
        <p:blipFill>
          <a:blip r:embed="rId2"/>
          <a:stretch/>
        </p:blipFill>
        <p:spPr>
          <a:xfrm>
            <a:off x="2057400" y="3276720"/>
            <a:ext cx="4419720" cy="2943000"/>
          </a:xfrm>
          <a:prstGeom prst="rect">
            <a:avLst/>
          </a:prstGeom>
          <a:ln w="3168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Uniformity to Diversity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52200"/>
            <a:ext cx="77724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body things that their model is “a” model;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y think it is “the” model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Uniformity to Diversity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852200"/>
            <a:ext cx="769644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f churches are faithfully proclaiming the Word and reaching their communities, we should celebrate them, whatever they look lik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Uniformity to Diversity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0866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answer is not to make all of our churches look alike.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individuality, similarity, conceptual, sameness, building blocks, wood, concept, blue, studio, similar, row, identical, wooden"/>
          <p:cNvPicPr/>
          <p:nvPr/>
        </p:nvPicPr>
        <p:blipFill>
          <a:blip r:embed="rId2"/>
          <a:stretch/>
        </p:blipFill>
        <p:spPr>
          <a:xfrm>
            <a:off x="5410080" y="2971800"/>
            <a:ext cx="2219400" cy="3333600"/>
          </a:xfrm>
          <a:prstGeom prst="rect">
            <a:avLst/>
          </a:prstGeom>
          <a:ln w="25560">
            <a:solidFill>
              <a:srgbClr val="859b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Uniformity to Diversity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3911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answer is to have everyone seeking the same thing: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to glorify God by being an indigenous expression of church life where they ar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Professional to Passionate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52200"/>
            <a:ext cx="41148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 used to be the realm of the seminary-trained—not so any mor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eiling, religion, marble, altar, perspective, pews, building, religious, Seminary, Montreal, interior, decoration, hallway, church, Canada, floors, floor, indoors, basilica, inside, Quebec, cathedral, hall, architecture"/>
          <p:cNvPicPr/>
          <p:nvPr/>
        </p:nvPicPr>
        <p:blipFill>
          <a:blip r:embed="rId2"/>
          <a:stretch/>
        </p:blipFill>
        <p:spPr>
          <a:xfrm>
            <a:off x="5257800" y="1905120"/>
            <a:ext cx="2554200" cy="38862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Seating to Sending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852200"/>
            <a:ext cx="7344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ig” was almost better in the age of church growth.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Seating to Sending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852200"/>
            <a:ext cx="7344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the age of the missional church,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the impact of kingdom growt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is more importan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Seating to Sending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852200"/>
            <a:ext cx="7344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urch leaders that break the code have decided that the most important thing is to empower and release their church family for kingdom impac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Seating to Sending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52200"/>
            <a:ext cx="77724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se churches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give themselves away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ather than serve their own need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Seating to Sending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852200"/>
            <a:ext cx="79246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urches need to move from “every member a minister” to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“every member a missionary.”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0920" y="1828800"/>
            <a:ext cx="776916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response by the missional congregation to change has produced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emerging transitional pattern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81532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or too many churches, we supposedly win thousands to Christ every year, and yet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few follow through and become active disciple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852200"/>
            <a:ext cx="495288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hould churches focus on better disci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 focu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n reaching out?”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Caucasian, male, man, carrying, blurred, using, blurry, female, cellular, collage, telephone, mobile, wireless, talking, communication, focus, outdoors, telecommunications, holding, blur, outside, people, woman, montage, wood, firewood, cell phone, chores"/>
          <p:cNvPicPr/>
          <p:nvPr/>
        </p:nvPicPr>
        <p:blipFill>
          <a:blip r:embed="rId2">
            <a:grayscl/>
          </a:blip>
          <a:srcRect l="0" t="0" r="15291" b="0"/>
          <a:stretch/>
        </p:blipFill>
        <p:spPr>
          <a:xfrm>
            <a:off x="3962520" y="3505320"/>
            <a:ext cx="4800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07696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ou cannot separate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evangelism and discipleship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92468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e need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missional churche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hat are focused on serious disciple making, not just leading people to make a decision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773360"/>
            <a:ext cx="792468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or this to occur, we must identify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what is a discipl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773360"/>
            <a:ext cx="784872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we fully define a disciple to include both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the inner disciplines of personal spirituality and the outer disciplines of missional living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Decisions to Discipl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45820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n we will move our churches to be filled with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missionary disciple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like the early church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Additional to Exponential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All healthy things reproduc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Peace, Visceral, Pasture, Wildlife, Sit, Outsides, Bushes, Creature, Greenery, Full-Body, Peaceful, Backdrop, Exterior, Birds, Sits, Foliage, Flora, Outdoors, One, Fur, Mind, Tranquility, Meadow, Living, Calm, Skunk, Informant, Turf, Full, Prairie, And, Wilderness, Brute, Outdoor, Day, Habitat, Front, Matrix, Rabbit, Grass, Plants, Hare, Surrounds, Body, Sod, Sitting, Environment, Nonentity, Life, Nobody, Being, Whole, Out-Of-Door, Mammal, Peacefully, World, Outside, jan, Exteriors, Leaves, Vegetation, Looking, Natural, Habitation, Out-Of-Doors, Animals, View, Plant, Climate, Cute, Nature, Of, Beast, Badlands, Ambiance, Fauna, Peacefulness, Context, Length, Thing, Views, Flowers, Grassland, Animal, Full-Length, Lawn, Landscape, Corporeal, Wild, Daytime, Lapin"/>
          <p:cNvPicPr/>
          <p:nvPr/>
        </p:nvPicPr>
        <p:blipFill>
          <a:blip r:embed="rId2"/>
          <a:stretch/>
        </p:blipFill>
        <p:spPr>
          <a:xfrm>
            <a:off x="380880" y="2895480"/>
            <a:ext cx="2395800" cy="1600200"/>
          </a:xfrm>
          <a:prstGeom prst="rect">
            <a:avLst/>
          </a:prstGeom>
          <a:ln w="38160">
            <a:solidFill>
              <a:srgbClr val="05013f"/>
            </a:solidFill>
            <a:miter/>
          </a:ln>
        </p:spPr>
      </p:pic>
      <p:pic>
        <p:nvPicPr>
          <p:cNvPr id="181" name="" descr="research, 400x, microscope, development, background, science, plant, microscopic, scientific, biology, yellow, cell, horizontal, texture, magnify, molecular, radiolaria, photomicroscopy"/>
          <p:cNvPicPr/>
          <p:nvPr/>
        </p:nvPicPr>
        <p:blipFill>
          <a:blip r:embed="rId3"/>
          <a:stretch/>
        </p:blipFill>
        <p:spPr>
          <a:xfrm>
            <a:off x="4419720" y="2666880"/>
            <a:ext cx="2385720" cy="1602000"/>
          </a:xfrm>
          <a:prstGeom prst="rect">
            <a:avLst/>
          </a:prstGeom>
          <a:ln w="38160">
            <a:solidFill>
              <a:srgbClr val="05013f"/>
            </a:solidFill>
            <a:miter/>
          </a:ln>
        </p:spPr>
      </p:pic>
      <p:pic>
        <p:nvPicPr>
          <p:cNvPr id="182" name="" descr="weeds, plant, body, individuals, weed, individual, down, blue, stem, Dandelion, humans, flowers, dandelions, person, stems, Caucasian, human, stalk, nature, persons, white, seeds, fluff, flora, reproduction, flower, sky, seed, people, plants"/>
          <p:cNvPicPr/>
          <p:nvPr/>
        </p:nvPicPr>
        <p:blipFill>
          <a:blip r:embed="rId4"/>
          <a:stretch/>
        </p:blipFill>
        <p:spPr>
          <a:xfrm>
            <a:off x="2362320" y="3809880"/>
            <a:ext cx="2403360" cy="1600200"/>
          </a:xfrm>
          <a:prstGeom prst="rect">
            <a:avLst/>
          </a:prstGeom>
          <a:ln w="38160">
            <a:solidFill>
              <a:srgbClr val="05013f"/>
            </a:solidFill>
            <a:miter/>
          </a:ln>
        </p:spPr>
      </p:pic>
      <p:pic>
        <p:nvPicPr>
          <p:cNvPr id="183" name="" descr="tree, rural, religion, church, bell, religous, black and white, steeple, exterior, tower, outdoors, sky, countryside, outside, snow, architecture, Christianity, winter, cloudy"/>
          <p:cNvPicPr/>
          <p:nvPr/>
        </p:nvPicPr>
        <p:blipFill>
          <a:blip r:embed="rId5"/>
          <a:stretch/>
        </p:blipFill>
        <p:spPr>
          <a:xfrm>
            <a:off x="5207040" y="4113360"/>
            <a:ext cx="3251160" cy="2155680"/>
          </a:xfrm>
          <a:prstGeom prst="rect">
            <a:avLst/>
          </a:prstGeom>
          <a:ln w="38160">
            <a:solidFill>
              <a:srgbClr val="0501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Additional to Exponential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ne of the signs that something is “living” is that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it reproduces itself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Additional to Exponential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229600" cy="42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ut let’s face it, there is not much addition going on, let alone multiplication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churches seek to break the code, they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spond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to change with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ntentional chang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79246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t every program (even GREAT programs) worked every time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007720"/>
            <a:ext cx="800100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most important </a:t>
            </a:r>
            <a:r>
              <a:rPr b="1" lang="en-US" sz="4000" spc="-1" strike="noStrike">
                <a:solidFill>
                  <a:srgbClr val="859b6b"/>
                </a:solidFill>
                <a:latin typeface="Tahoma"/>
              </a:rPr>
              <a:t>thing—seek to understand the people we were called to reach and develop processes to reach them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6964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52200"/>
            <a:ext cx="719136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grams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nev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eem to work the same way in two place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33000"/>
            <a:ext cx="8153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8edf2"/>
                </a:solidFill>
                <a:latin typeface="Tahoma"/>
              </a:rPr>
              <a:t>From Programs to Processes</a:t>
            </a:r>
            <a:endParaRPr b="1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52200"/>
            <a:ext cx="7848720" cy="424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hurches need certain processes to accomplish their purpose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Ingenious, Delusion, Notebook, Blueprint, Binary, Computer, Show, Pc, Creation, Manifestation, Guise, Backdrop, Exterior, Diction, Chimera, Fathomless, Envisioning, Unit, Outcrop, Emblem, Aura, Facade, Eternity, Technological, Encode, Fantasy, Culture, Pattern, Form, Technol, Numbers, Design, Outer, Format, Caste, Outward, And, Supercomputer, Conceived, Engraving, Infinite, Processing, Close-In, Imagination, Fantasia, Perspective, Illusion, Bottomless, Ups, Allegory, Simile, Surrounds, Up, Background, Horizon, A, Graphic, Metaphoric, Symbol, Playacting, Logo, Processor, Cpu, Arty, Infinity, Game, Businessmen, Laptop, Accepted, Story, Deduct, Effect, Close-Up, Look, Mainframe, Appearance, Conceptual, Notions, jan, Rearing, Bookshelf, Coding, Angle, Nirvana, Shell, Picture, Central, Projection, Cipher, Close, Idea, Data, Hieroglyph, Figment, Wisdom, Creative, Close-Ups, Context, Communication, Prognosis, Code, Mien, Flange, Summation, Boundless, Conceptualized, Intangible, Landscape"/>
          <p:cNvPicPr/>
          <p:nvPr/>
        </p:nvPicPr>
        <p:blipFill>
          <a:blip r:embed="rId2"/>
          <a:stretch/>
        </p:blipFill>
        <p:spPr>
          <a:xfrm>
            <a:off x="5181480" y="3581280"/>
            <a:ext cx="3486240" cy="2490840"/>
          </a:xfrm>
          <a:prstGeom prst="rect">
            <a:avLst/>
          </a:prstGeom>
          <a:ln w="38160">
            <a:solidFill>
              <a:srgbClr val="859b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9:57:54Z</dcterms:created>
  <dc:creator>Lizette Beard</dc:creator>
  <dc:description/>
  <cp:keywords/>
  <dc:language>en-US</dc:language>
  <cp:lastModifiedBy>estetze</cp:lastModifiedBy>
  <dcterms:modified xsi:type="dcterms:W3CDTF">2008-04-25T01:58:32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