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D299-96DD-49F3-B33D-0C745AB2CD1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8BD9-B12B-4DB3-8D9A-F364B7244CEA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3865-048D-42B2-9430-55CC1F3EA7F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0828-8A18-4E59-97FF-062BE027EDB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238E-DEDC-4DC3-A0A7-A2EE76A4C95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30E5-CEEB-408F-A11C-75E0497C6D0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8F2C-4B38-4567-9F96-6D2D7C6F1AE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FAE1-523E-469B-A90A-046BF9BAB00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85A6-C95D-488B-AA47-39B4AECD984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5A7E-63E4-4A5D-B130-BE8B7476CC3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C3CF-8697-4E0C-9B42-FDF91C18144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E4DD-9414-4762-98EA-158FE620301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05A8-CA13-475A-92A5-F47D90EB362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CA63-EE2F-411E-ADA3-08DD00A9A59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7BA1-B165-4620-8396-522F6BF55FE1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A4D6-A611-45A1-A16B-0B137BFA86F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F113-FA26-43D3-B308-BB4155B3940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0BEC-E0FC-4B51-AA5F-A69C0317F30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FD5E-A234-47AA-B602-41C0DD3EF59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8992-75C6-4545-B211-19105F80E38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24C9-5B84-4293-BFE3-009B3333CCF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C2F4-D69C-4FE8-9DAD-1FFC6963B17A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4A1C-F41D-4D33-93AE-1C47F018F2A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CC27-756B-4CD8-B3CA-2379BA2CCDFB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308D-0F86-4C06-965A-E8A616AA1FC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5F55-1F68-4B2D-B00A-6A252EA7D49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453D-207F-4957-84BE-CD1CC2697928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6030-1AED-459C-B9A8-43003D19493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5EE6-2404-4E92-A8B3-B2775DADBF4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55E9-5F1D-4990-B7E3-7B2F930ED573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47EB-FED1-4C7E-94DB-7D7516F6E0D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1C42-59D7-4AFC-BD0A-6E9C93F7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2C10-4D73-43DC-80BD-264EE873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67F9-5F85-4FB4-9D64-3AEF87B6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F874-9B99-4ABE-871E-130FEC25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B10A-5AB3-4F12-AD31-4248A639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C46A-3CD8-4D05-A565-FEF617E9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444E-7137-46B5-BC2D-1CA80F6F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E893-70D7-4577-ABBF-567F59E4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CF29-7919-4B50-B5DA-69068683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8562-56A2-480E-99F3-8FCF1DD3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C22F-9AB4-4D10-BB68-856147D2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CBE-AA75-4838-A7B6-B3334855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0F72-C663-42BC-95A6-8F1C8A05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5414-6BB6-4300-9E8B-FF08852A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955D-70FF-4993-B058-0E5A6D8B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A0E2-DC74-4EEB-AB62-667C2E3C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096B-3966-4E4A-B5DB-0630B88A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2B37F-2923-48C2-8C22-39A03C67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D9837-AB82-44D6-A0AF-75D44726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C23CD-9795-4B9D-8C46-E9707EFF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43C86-5C37-465F-8E21-F759E948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EF729-BDF9-420E-B9EF-7F21348F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23E6-BD88-4E9B-B9FF-C797E7A6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FD905-5D77-4632-B04A-EA58954C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A06E2-BE5B-4764-AEB5-DEA2C012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6F442-F4E7-48E9-8829-BA883642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B45DE-38B9-430C-B290-4B81EF60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88D33-5EE4-4E07-83CB-ABAFF760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A1E8F-19C3-4BA0-B737-5CBA7E7D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51FA3-B173-40DA-9039-14CCE9BB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B0CA9-8EC4-42D9-82C5-54C07A6F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7AFA6-C60A-4AA7-A075-59B0DD71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7D948-F76C-4C11-A7CA-FB9E58E6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D39-555F-4936-8E36-24A67C63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C41D6-7F53-4648-8DEF-889BC5E3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2F922-648E-4174-9953-1F95D251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067C5-79F3-414B-B187-CA8BCD80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BCB60-D176-4A82-B9F3-E2BA02AC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6DB8C-DF2B-4647-A4CD-7DB8FFAB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34646-3571-4D9E-80D7-89A29F29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F9A7C-0E9F-4E52-929A-0E1E8ED8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4F012-FC7E-4651-9B94-0D5D446E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15427-FA70-42A8-8C34-6985EDD0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5390D-A3C2-494A-B26A-A30283C4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E5FD-BD27-4105-9D9C-0064F396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A4EE2-FC40-4179-9FED-C3801B77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AF544-8E30-4ABE-872C-33D1C81A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AD2F2-688F-4E7E-BCD7-D278F456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98547-A907-49F0-8755-80F3BC7F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2BEFB-2857-4917-A299-96802F96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D517A-EC34-41BE-AA5F-8EB31AA5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4B33D-1FF0-4FA9-86A3-A44CFF12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DBFBA-C4C0-4629-9F9F-8FFCEBBE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C32CE-C546-4418-AE44-A4CBDD5E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2E608-01A3-40CF-B3F5-E394D1A9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791E-1D76-46B8-9F44-7698ABE8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E634D-6D72-4B94-9880-07B26EE5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FD20B-F3AF-413E-9E1D-52970F7A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D1FF4-273E-4469-8E96-B41AFE35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850EC-D0CA-41DD-9663-F771E6A6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DB515-DB60-4B96-86D1-8655163F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3CCDB-BC11-4CAE-A4BC-30E7AA39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F1D4F-B6A6-4E98-95F9-896411AE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403B0-9A3F-45D8-89CE-558BD5BC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CFB35-6F38-4E6D-AA5F-93E45C1C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FA179-693A-4CF4-AB69-8E22E75D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6CB7-5C94-4EA4-99D8-78057408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76E4D-24A9-4BF5-AEA4-FF54CD3B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A6988-F64F-4F7D-A2F2-96755D80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B7681-3D5D-4C05-8BB7-E49CAFB6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9D01E-C080-4292-8B1E-8D720F83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A9EB5-2EDF-4692-9084-0337D381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3CF9E-EF1C-443A-8C1A-D13EED45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D5B93-F89B-41DB-9FF3-5F4ECBEA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3246A-EBCC-44CE-9686-1C2ED05D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E6F45-63B0-4EAF-A7FC-0EC503CC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AAF96-6C23-4D20-8F47-71067004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FD1-FE26-4B7E-A284-AC132FE8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9644F-DFF9-42BD-A78B-29A0D9FC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98A65-5836-4A7B-9C38-1E788A09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69C52-A8CD-400A-B124-F254F96E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D41C1-5B66-4071-8403-C325951D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F84D8-2991-4B31-91AF-E669B775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82513-7112-4945-8FE9-5529A6BB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4E020-7D3C-4EF6-B90C-47064676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33591-1BF3-48FD-8569-B611EDF5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69EAF-B30B-4E77-B95E-728066C9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36219-5034-41ED-BCF5-366F5D3C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BB81-3D48-41D9-9C18-6AA936C1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6205A-A596-4874-8D14-25A86EDE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CB138-AF6E-407E-BDA3-D7DBD3B5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76B02-EA5A-4D11-8E4D-BC6ABC0C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8820B-948C-47B7-9CB7-3B986E28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7FCD9-CDA9-43E9-B4FA-FF7D22B0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9224C-535E-4EB2-8E69-DF29EC0D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1759D-85A1-4534-93AA-5CCA1CD0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9917-D78B-48CB-9150-86A74CA679EE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19F4-C9FD-4076-9573-52AA69AB4754}" type="slidenum">
              <a:rPr b="1" lang="en-US" sz="14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7C81-FFFB-46EE-AD39-F5BFE327D50B}" type="datetime">
              <a:rPr b="0" lang="en-US" sz="1200" spc="-1" strike="noStrike">
                <a:solidFill>
                  <a:srgbClr val="ffffff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02F9-8EAD-488C-A781-0157D15DB49C}" type="slidenum"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7441-40E8-444F-85CC-808520719EF8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10C8-8BE1-41F3-B238-2B553C313798}" type="slidenum"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14DF-426D-408E-8CBF-679DA98185A2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9292-B131-4252-9DC3-597BF22BD211}" type="slidenum">
              <a:rPr b="1" lang="en-US" sz="14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C24F-B567-4C51-A441-C16DEC011717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214F-5837-4BB5-94D5-4778F7CC64E2}" type="slidenum"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A4F2-9D75-4EA7-BA55-5A743FBDABF2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617b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1E56-5945-41D4-9344-CA5590F62639}" type="slidenum">
              <a:rPr b="0" lang="en-US" sz="1200" spc="-1" strike="noStrike">
                <a:solidFill>
                  <a:srgbClr val="04617b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F28D-CD02-4147-921D-AE2491170178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520A-F037-498B-A26E-F28D161C4166}" type="slidenum">
              <a:rPr b="1" lang="en-US" sz="14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07B4-1923-49E0-B8BE-038C264282C3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EC1A-F54D-4642-833B-E6847168012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2"/>
          <a:stretch/>
        </p:blipFill>
        <p:spPr>
          <a:xfrm>
            <a:off x="762120" y="1444680"/>
            <a:ext cx="7218360" cy="19018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r. Ed Stetzer, Director LifeWay Research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ological Integr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Baptists won the Western Frontier because they were passionate about their beliefs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Pentecostals are not de-emphasizing what they believe to win Central America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carn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mpower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ovements </a:t>
            </a:r>
            <a:r>
              <a:rPr b="1" lang="en-US" sz="3600" spc="-1" strike="noStrike">
                <a:solidFill>
                  <a:srgbClr val="0b5395"/>
                </a:solidFill>
                <a:latin typeface="Constantia"/>
              </a:rPr>
              <a:t>only occur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when the disempowered are given the freedom, and then take up the responsibility, to lead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mpower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n our case, the </a:t>
            </a:r>
            <a:r>
              <a:rPr b="1" lang="en-US" sz="3600" spc="-1" strike="noStrike">
                <a:solidFill>
                  <a:srgbClr val="0c9b74"/>
                </a:solidFill>
                <a:latin typeface="Constantia"/>
              </a:rPr>
              <a:t>clergification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of the church has marginalized those God has called—all people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marginalization disturbs and satisfies pastors at the same time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mpower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Pastors are </a:t>
            </a:r>
            <a:r>
              <a:rPr b="0" lang="en-US" sz="3300" spc="-1" strike="noStrike">
                <a:solidFill>
                  <a:srgbClr val="0c9b74"/>
                </a:solidFill>
                <a:latin typeface="Constantia"/>
              </a:rPr>
              <a:t>disturbed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because they cannot get others to do the work. 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They are </a:t>
            </a:r>
            <a:r>
              <a:rPr b="0" lang="en-US" sz="3300" spc="-1" strike="noStrike">
                <a:solidFill>
                  <a:srgbClr val="0c9b74"/>
                </a:solidFill>
                <a:latin typeface="Constantia"/>
              </a:rPr>
              <a:t>satisfied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because they are affirmed for doing the work others should be doing. 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For many pastors, their </a:t>
            </a:r>
            <a:r>
              <a:rPr b="0" lang="en-US" sz="3300" spc="-1" strike="noStrike">
                <a:solidFill>
                  <a:srgbClr val="0c9b74"/>
                </a:solidFill>
                <a:latin typeface="Constantia"/>
              </a:rPr>
              <a:t>identity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is tied up in the affirmation that comes from a disempowered church.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mpower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uch co-dependence is the death-knell of movemental Christianity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mpower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nstead…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ordinary believers need to be </a:t>
            </a:r>
            <a:r>
              <a:rPr b="1" lang="en-US" sz="3600" spc="-1" strike="noStrike">
                <a:solidFill>
                  <a:srgbClr val="0c9b74"/>
                </a:solidFill>
                <a:latin typeface="Constantia"/>
              </a:rPr>
              <a:t>expected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3600" spc="-1" strike="noStrike">
                <a:solidFill>
                  <a:srgbClr val="0c9b74"/>
                </a:solidFill>
                <a:latin typeface="Constantia"/>
              </a:rPr>
              <a:t>trained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to participate in the ordinary activity of living a life surrendered to God and His movement to redeem a lost worl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r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ovemental Christianity is messy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ose involved in it make mistak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Nobody gives her or his life for a bland belief system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 movement of God cannot be contained in a single movement or even theological tradi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r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requires charity to hold firmly held convictions while rejoicing for and speaking well about, those who hold other convictions and are being greatly blessed by Go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calabil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ovements often are stifled within smaller communities because of the small mindedness of local believers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When God begins to move, and believers allow movement Christianity to begin to grow, structures must be able to rapidly re-size to not stifle such movement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f and when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ovemental Christianity happens in North America, I believe it will consist of 10 elements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calabil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n many cases, movements will break out of structures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calabil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Often, organizations created to facilitate structures loose their scalability—thereby hindering the movemen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se structures become bottlenecks rather than catalyst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ol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The modern evangelical separation of gospel proclamation and societal transformation is an historical oddity.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ovemental Christianity practices holistic ministry much in the way of Jesus.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Current movements and historical awakenings are and were accompanied by societal transformation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cl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 do not hold the keys to movement Christianity…but I do yearn for i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Diagram 1" descr=""/>
          <p:cNvPicPr/>
          <p:nvPr/>
        </p:nvPicPr>
        <p:blipFill>
          <a:blip r:embed="rId2"/>
          <a:stretch/>
        </p:blipFill>
        <p:spPr>
          <a:xfrm>
            <a:off x="-6480" y="146160"/>
            <a:ext cx="915696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Pray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oo often, placed first out of habit—not convictio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rue movemental Christianity—prayer will have to come firs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sk God to change u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entional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We need to show the intention of being movemental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t the moment, our focus is defensive and incremental – not intentional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acrif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No change comes without giving something up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No movement will happen until pressure is applied to move the church from the place of being static to a body of believers in actio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producibil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ovements do not occur through large thing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ig budge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ig tea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ovements occur through small units that are readily reproducibl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eproducibility has to be seen at every level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producibility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uch reproduction requires that we resist the grandiose in favor of the reproducible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ological Integr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hurches wanting to be involved in </a:t>
            </a:r>
            <a:r>
              <a:rPr b="1" lang="en-US" sz="3600" spc="-1" strike="noStrike">
                <a:solidFill>
                  <a:srgbClr val="0c9b74"/>
                </a:solidFill>
                <a:latin typeface="Constantia"/>
              </a:rPr>
              <a:t>transformative movemental Christianity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old firm and passionate positions on biblical views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4:01:55Z</dcterms:created>
  <dc:creator/>
  <dc:description/>
  <dc:language>en-US</dc:language>
  <cp:lastModifiedBy/>
  <dcterms:modified xsi:type="dcterms:W3CDTF">2008-04-25T02:01:09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79691033</vt:lpwstr>
  </property>
</Properties>
</file>