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AFA-DCFD-4F1D-B68D-48E337DF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9AA-4055-47DE-8DA5-B44618E1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AFF-39FE-40B3-90F5-9E039A94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484-037B-4FA6-A315-3B1A1535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551F-E950-4CA4-BB02-3E1C3E5C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A780-2BB9-4499-9761-CE38772D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3645-1FC2-4D72-B098-0942DD28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2CC-154D-4B7B-8649-561B318E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D353-9276-4A97-82A8-F8DAAF07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64BB-71F3-4C01-8096-7E67A9C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E40E-8A79-4475-8A6B-645605A9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8FD-1A12-4F57-8AC3-24EDE080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8017-BE24-471B-B2ED-71707EF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846A-1DF2-42C1-85E8-C293B895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798A-D647-43C2-A0F2-21B3CCD1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7DCB-637C-41D6-9CE0-9A4CBF29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656E-BDFE-49C7-9AA5-C2B304A2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12C-A90E-4BB6-9F85-48D40028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399-5C92-4CD4-BBF9-0C81DDA0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7C4-EF6C-4883-8726-9A954C78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1A5-B532-4F7F-B8EC-DFF719FA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A65-3D52-4B26-A4C3-B7D7E39E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A82-055E-46C5-B14B-3848ACC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AC2-ED84-4F63-86BF-0C470090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500D-286D-4B26-817F-7D3ADDF312B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5E8A-ED29-4427-BA80-42F358E676B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Goal of the Comeback Church Proces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The goal of this event and process:  To provide good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information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to church leaders, and to help them with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application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of the principles, so that we see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transformation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in our churches resulting in church health and growth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952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omeback Church Tract at Super Saturday August through September.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onferences will be offered at Super Saturdays, that support and promote implementation of the Comeback Factor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3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 Rounded MT Bold"/>
              </a:rPr>
              <a:t>Super Saturday 2008</a:t>
            </a:r>
            <a:br>
              <a:rPr sz="2800"/>
            </a:b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 Rounded MT Bold"/>
                <a:ea typeface="Times New Roman"/>
              </a:rPr>
              <a:t>Dates &amp; Locations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Berlin Sans FB"/>
                <a:ea typeface="Times New Roman"/>
              </a:rPr>
              <a:t>  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August 16 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Immanuel Baptist Church, Lexington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August 23 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St. Matthews Baptist Church, Louisville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Sept 6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First Baptist Church, Somerse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Sept 6 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Lone Oak First Baptist Church, 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Paducah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Sept 13 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First Baptist Church, Pikeville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Sept 13 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Berlin Sans FB"/>
                <a:ea typeface="Times New Roman"/>
              </a:rPr>
              <a:t>First Baptist Church, Bowling Gree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472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ional Strategic Planning with Congregational leaders (as needed) using one of the following…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llaborative Leadership Proce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hurch Development Team Proce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hurch Central Proces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or more information on the Comeback Church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ubmit a request today  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ontact your regional strategist by phone or by email 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ontact Jenny Byrd in the Church Development Office at Jenny.Byrd@kybaptist.or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029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ing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hone Call/Personal Visit with Pastor by Church Development Strategist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he Regional Church Development Strategist will explain the Comeback Church Process to the pastor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029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ing/Evaluating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eback Church Survey Administered with Pastor and Key Leaders.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urvey will indicate perceived strengths and weaknesses in the following key areas:  Worship, Evangelism, Discipleship, Fellowship, Ministry and Prayer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5333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Coaching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ive Months of Networking on Major Comeback Factors April-Augus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or five consecutive months in four regions of the state, network meetings will be offered to “dig deeper” and discuss application strategies for major comeback factors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Comeback Church Network Meeting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uth Central Region – Regional Strategist, Alan Witha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verns Valley Baptist Church, 1100 Ring Road, Elizabethtown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0:30 to Noon (Eastern Time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pril 15 – Key Factor #1 “Intentional Evangelism” 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ay 20 – Key Factor #2  “Visional Leadership”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une 17 – Key Factor #3 “Mobilizing Lay People for Ministry”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uly 15 – Key Factor #4 “Renewed Focus on Jesus and the Mission of the Church”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ugust 12 – Key Factor #5 “Celebrative Worship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72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Comeback Church Network Meetings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South Eastern Region, Strategist, Mike James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Pulaski Baptist Association Office, Somerset, KY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10:30 to Noon  (Eastern Time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April 29 - Key Factor #1 "Intentional Evangelism"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May 13 - Key Factor #2 "Visional Leadership"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June 17 - Key Factor #3 "Mobilizing Lay People for Ministry"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July 15 - Key Factor #4 "Renewed Focus on Jesus and the Mission of the Church“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August 12 - Key Factor #5 "Celebrative Worship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486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COMEBACK CHURCH NETWORK MEETINGS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Western Region, Regional Strategist Ronnie Sivells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Caldwell Lyon Baptist Association Office, Princeton, Ky.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10:30 to Noon (Central Time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April 17.....Key Factor # 1 "Visional Leadership" 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May 22.....Key Factor # 2 "Intentional Evangelism“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June 19.....Key Factor # 3 "Mobilizing Lay People For Ministry"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July 17.....Key Factor # 4 "Renewed Focus on Jesus and the Mission of the Church" 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August 21.....Key factor # 5 "Celebrative Worship"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Comeback Church Network Meetings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North Central Region, Regional Strategist, Glen Cummins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Immanuel Baptist Church, 3100 Tates Creek Road, Lexington, Room 167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April 14 – Key Factor #1 “Visional Leadership” 10:30 to No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May 19 – Key Factor #2 “Renewed Focus on Jesus and the Mission of the Church” 10:30 to Noon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June 16 – Key Factor #3 “Intentional Evangelism” 10:30 to Noon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July 14 – Key Factor #4 “Mobilizing Lay People for Ministry” 10:30 to Noon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August 11 – Key Factor #5 “Celebrative Worship” 10:30 to No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2:49:59Z</dcterms:created>
  <dc:creator>Staff</dc:creator>
  <dc:description/>
  <dc:language>en-US</dc:language>
  <cp:lastModifiedBy>estetze</cp:lastModifiedBy>
  <dcterms:modified xsi:type="dcterms:W3CDTF">2008-03-26T14:02:59Z</dcterms:modified>
  <cp:revision>6</cp:revision>
  <dc:subject/>
  <dc:title>Goal of the Comeback Church Process</dc:title>
</cp:coreProperties>
</file>